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13AC8-A57B-4DFF-BC99-2A6FC42AF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C27A2-7A09-4FA5-8970-C8DBF56B6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D7408-39D9-4444-984C-29773920A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2D0FD-BC13-48FB-8A45-0E73AD2BD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55681-3018-4E75-B6BE-F032CF3A5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9869B-14CF-4FC7-9A6C-C9170077E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6E0DB-7B7B-4B53-A54D-3AB367E81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8877A-C493-4041-9EDA-8312E350D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6CC5C-3FBC-4ED7-AF3A-CDC48592A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D9916-FD26-4208-8062-63A1E1DC2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D2AF5-77C8-4019-B31D-083E3B519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BF51A-5AC1-4518-B2D7-FE8A336D3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9BCE5-FF28-4581-A5D3-52DABCC99A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36000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認証シーケンス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(keyboard-interactiv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08000" y="693720"/>
            <a:ext cx="93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148360" y="693720"/>
            <a:ext cx="93636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68360" y="1268280"/>
            <a:ext cx="0" cy="172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435640" y="1268280"/>
            <a:ext cx="0" cy="172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68360" y="1557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71640" y="131292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268360" y="19177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71640" y="168120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INFO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1628640"/>
            <a:ext cx="1440000" cy="358920"/>
          </a:xfrm>
          <a:prstGeom prst="wedgeRoundRectCallout">
            <a:avLst>
              <a:gd name="adj1" fmla="val 80652"/>
              <a:gd name="adj2" fmla="val 12743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パスワード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268360" y="22766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771640" y="204156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INFO_RESPON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2268360" y="26607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71640" y="2421000"/>
            <a:ext cx="237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95280" y="2349360"/>
            <a:ext cx="1440000" cy="360360"/>
          </a:xfrm>
          <a:prstGeom prst="wedgeRoundRectCallout">
            <a:avLst>
              <a:gd name="adj1" fmla="val 80652"/>
              <a:gd name="adj2" fmla="val 3590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成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796000" y="1628640"/>
            <a:ext cx="1440000" cy="362160"/>
          </a:xfrm>
          <a:prstGeom prst="wedgeRoundRectCallout">
            <a:avLst>
              <a:gd name="adj1" fmla="val -72930"/>
              <a:gd name="adj2" fmla="val 32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プロンプト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68360" y="48974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771640" y="465300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2268360" y="52578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771640" y="502272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PK_O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2268360" y="56167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771640" y="538164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2268360" y="60008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1640" y="5761080"/>
            <a:ext cx="237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268360" y="450864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3571920"/>
            <a:ext cx="77724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ja-JP" sz="1400" spc="-1" strike="noStrike" u="sng">
                <a:solidFill>
                  <a:srgbClr val="000000"/>
                </a:solidFill>
                <a:uFillTx/>
                <a:latin typeface="Arial"/>
              </a:rPr>
              <a:t>の認証シーケンス</a:t>
            </a:r>
            <a:r>
              <a:rPr b="0" lang="ja-JP" sz="1400" spc="-1" strike="noStrike" u="sng">
                <a:solidFill>
                  <a:srgbClr val="000000"/>
                </a:solidFill>
                <a:uFillTx/>
                <a:latin typeface="Arial"/>
              </a:rPr>
              <a:t>(publicke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435640" y="450864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908000" y="3932280"/>
            <a:ext cx="93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932280"/>
            <a:ext cx="93636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4219560"/>
            <a:ext cx="1440000" cy="358920"/>
          </a:xfrm>
          <a:prstGeom prst="wedgeRoundRectCallout">
            <a:avLst>
              <a:gd name="adj1" fmla="val 81203"/>
              <a:gd name="adj2" fmla="val 14026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796000" y="4579920"/>
            <a:ext cx="1655640" cy="361800"/>
          </a:xfrm>
          <a:prstGeom prst="wedgeRoundRectCallout">
            <a:avLst>
              <a:gd name="adj1" fmla="val -71666"/>
              <a:gd name="adj2" fmla="val 4210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uthorized_keys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と照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300640"/>
            <a:ext cx="1584360" cy="432000"/>
          </a:xfrm>
          <a:prstGeom prst="wedgeRoundRectCallout">
            <a:avLst>
              <a:gd name="adj1" fmla="val 68435"/>
              <a:gd name="adj2" fmla="val 224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と、秘密鍵で署名した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796000" y="5227560"/>
            <a:ext cx="1655640" cy="433440"/>
          </a:xfrm>
          <a:prstGeom prst="wedgeRoundRectCallout">
            <a:avLst>
              <a:gd name="adj1" fmla="val -71861"/>
              <a:gd name="adj2" fmla="val 4340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と、署名され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検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15960" y="21564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認証シーケンス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(Pagean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995640" y="549360"/>
            <a:ext cx="93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588000" y="549360"/>
            <a:ext cx="93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500720" y="1052640"/>
            <a:ext cx="0" cy="554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093080" y="1052640"/>
            <a:ext cx="0" cy="554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260360" y="549360"/>
            <a:ext cx="10080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エージェ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agean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763640" y="1052640"/>
            <a:ext cx="0" cy="554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500720" y="3013200"/>
            <a:ext cx="2589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43280" y="276876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4500720" y="3373560"/>
            <a:ext cx="2589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3280" y="313848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PK_O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4500720" y="5776920"/>
            <a:ext cx="2589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43280" y="554184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4500720" y="6161040"/>
            <a:ext cx="2589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72080" y="5921280"/>
            <a:ext cx="230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700360" y="5605560"/>
            <a:ext cx="1440000" cy="431640"/>
          </a:xfrm>
          <a:prstGeom prst="wedgeRoundRectCallout">
            <a:avLst>
              <a:gd name="adj1" fmla="val 75356"/>
              <a:gd name="adj2" fmla="val -845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と、署名された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308720" y="2695680"/>
            <a:ext cx="1656000" cy="361800"/>
          </a:xfrm>
          <a:prstGeom prst="wedgeRoundRectCallout">
            <a:avLst>
              <a:gd name="adj1" fmla="val -65342"/>
              <a:gd name="adj2" fmla="val 3684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uthorized_keys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と照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08720" y="5389560"/>
            <a:ext cx="1656000" cy="433440"/>
          </a:xfrm>
          <a:prstGeom prst="wedgeRoundRectCallout">
            <a:avLst>
              <a:gd name="adj1" fmla="val -64379"/>
              <a:gd name="adj2" fmla="val 4120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と、署名され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検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763640" y="210492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979640" y="1860480"/>
            <a:ext cx="24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AGENT_IDENTITIES_ANSW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763280" y="166356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79640" y="1428840"/>
            <a:ext cx="2305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AGENTC_REQUEST_IDENTIT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50920" y="1500120"/>
            <a:ext cx="1296720" cy="432000"/>
          </a:xfrm>
          <a:prstGeom prst="wedgeRoundRectCallout">
            <a:avLst>
              <a:gd name="adj1" fmla="val 65791"/>
              <a:gd name="adj2" fmla="val 8750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登録された公開鍵をすべて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284720" y="2797200"/>
            <a:ext cx="142920" cy="719280"/>
          </a:xfrm>
          <a:custGeom>
            <a:avLst/>
            <a:gdLst>
              <a:gd name="textAreaLeft" fmla="*/ 91440 w 142920"/>
              <a:gd name="textAreaRight" fmla="*/ 143280 w 142920"/>
              <a:gd name="textAreaTop" fmla="*/ 18720 h 719280"/>
              <a:gd name="textAreaBottom" fmla="*/ 700560 h 71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050920" y="3373560"/>
            <a:ext cx="2160720" cy="431640"/>
          </a:xfrm>
          <a:prstGeom prst="wedgeRoundRectCallout">
            <a:avLst>
              <a:gd name="adj1" fmla="val 52425"/>
              <a:gd name="adj2" fmla="val -10110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K_OK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が返るまで、エージェントからの公開鍵をすべて試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63640" y="505764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979640" y="4813200"/>
            <a:ext cx="24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AGENT_SIGN_RESPON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1763280" y="461628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979640" y="438156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AGENTC_SIGN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716360" y="1284120"/>
            <a:ext cx="1150920" cy="360360"/>
          </a:xfrm>
          <a:prstGeom prst="wedgeRoundRectCallout">
            <a:avLst>
              <a:gd name="adj1" fmla="val -70689"/>
              <a:gd name="adj2" fmla="val 5968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要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716360" y="4021200"/>
            <a:ext cx="1150920" cy="431640"/>
          </a:xfrm>
          <a:prstGeom prst="wedgeRoundRectCallout">
            <a:avLst>
              <a:gd name="adj1" fmla="val -70138"/>
              <a:gd name="adj2" fmla="val 8860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渡して署名を要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50920" y="4452840"/>
            <a:ext cx="1296720" cy="432000"/>
          </a:xfrm>
          <a:prstGeom prst="wedgeRoundRectCallout">
            <a:avLst>
              <a:gd name="adj1" fmla="val 65791"/>
              <a:gd name="adj2" fmla="val 8750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秘密鍵で署名した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771640" y="2581200"/>
            <a:ext cx="1440000" cy="358920"/>
          </a:xfrm>
          <a:prstGeom prst="wedgeRoundRectCallout">
            <a:avLst>
              <a:gd name="adj1" fmla="val 70949"/>
              <a:gd name="adj2" fmla="val 654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maya</cp:lastModifiedBy>
  <dcterms:modified xsi:type="dcterms:W3CDTF">2008-11-26T08:33:54Z</dcterms:modified>
  <cp:revision>335</cp:revision>
  <dc:subject/>
  <dc:title>DDEのしくみ</dc:title>
</cp:coreProperties>
</file>