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8C96-C409-426C-B114-0BC657BD5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F561-0A42-412C-BC3D-F9430E2D1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39B2-983F-44A5-95A0-9A5157281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BEAD-BFDD-49EB-BB9A-7B187B687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DC3F-E0C1-4456-AC5B-0D6E6F53E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AA74-F57B-449D-9D3B-BCDDA7F29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E53E-7196-4FA9-B6D7-9543B6447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9D03-2E43-4F9F-930B-5CD1240D9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92FA-C78D-439E-9655-51BC7DF3C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D20A-D69C-4F7A-ABE0-A19111F81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E348-AA66-4207-B74D-050591C24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9DDA-7714-4298-A878-19FB67301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11F9C-5B60-464C-830E-6DCCBB6030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なし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05084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148428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191628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148428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48428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84360" y="1916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692280"/>
            <a:ext cx="1152720" cy="360360"/>
          </a:xfrm>
          <a:prstGeom prst="wedgeRoundRectCallout">
            <a:avLst>
              <a:gd name="adj1" fmla="val -1791"/>
              <a:gd name="adj2" fmla="val 165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ビッグエンディア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692280"/>
            <a:ext cx="1152360" cy="288720"/>
          </a:xfrm>
          <a:prstGeom prst="wedgeRoundRectCallout">
            <a:avLst>
              <a:gd name="adj1" fmla="val -25893"/>
              <a:gd name="adj2" fmla="val 2241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パディン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35280" y="1916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64000" y="198900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1484280"/>
            <a:ext cx="216036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84720" y="148428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84360" y="2781360"/>
            <a:ext cx="4751640" cy="287280"/>
          </a:xfrm>
          <a:prstGeom prst="leftRightArrow">
            <a:avLst>
              <a:gd name="adj1" fmla="val 42648"/>
              <a:gd name="adj2" fmla="val 13392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00720" y="3141720"/>
            <a:ext cx="86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36000" y="148428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35280" y="2421000"/>
            <a:ext cx="360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36960" y="1916280"/>
            <a:ext cx="2111400" cy="744480"/>
          </a:xfrm>
          <a:custGeom>
            <a:avLst/>
            <a:gdLst/>
            <a:ahLst/>
            <a:rect l="l" t="t" r="r" b="b"/>
            <a:pathLst>
              <a:path w="1330" h="469">
                <a:moveTo>
                  <a:pt x="151" y="0"/>
                </a:moveTo>
                <a:cubicBezTo>
                  <a:pt x="151" y="57"/>
                  <a:pt x="151" y="114"/>
                  <a:pt x="151" y="182"/>
                </a:cubicBezTo>
                <a:cubicBezTo>
                  <a:pt x="151" y="250"/>
                  <a:pt x="0" y="364"/>
                  <a:pt x="151" y="409"/>
                </a:cubicBezTo>
                <a:cubicBezTo>
                  <a:pt x="302" y="454"/>
                  <a:pt x="862" y="469"/>
                  <a:pt x="1058" y="454"/>
                </a:cubicBezTo>
                <a:cubicBezTo>
                  <a:pt x="1254" y="439"/>
                  <a:pt x="1292" y="378"/>
                  <a:pt x="1330" y="31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84720" y="1413000"/>
            <a:ext cx="1151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1052640"/>
            <a:ext cx="3192480" cy="612720"/>
          </a:xfrm>
          <a:custGeom>
            <a:avLst/>
            <a:gdLst/>
            <a:ahLst/>
            <a:rect l="l" t="t" r="r" b="b"/>
            <a:pathLst>
              <a:path w="2011" h="386">
                <a:moveTo>
                  <a:pt x="91" y="386"/>
                </a:moveTo>
                <a:cubicBezTo>
                  <a:pt x="45" y="257"/>
                  <a:pt x="0" y="129"/>
                  <a:pt x="272" y="69"/>
                </a:cubicBezTo>
                <a:cubicBezTo>
                  <a:pt x="544" y="9"/>
                  <a:pt x="1437" y="0"/>
                  <a:pt x="1724" y="23"/>
                </a:cubicBezTo>
                <a:cubicBezTo>
                  <a:pt x="2011" y="46"/>
                  <a:pt x="2003" y="125"/>
                  <a:pt x="1996" y="205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4005360"/>
            <a:ext cx="6191280" cy="287280"/>
          </a:xfrm>
          <a:prstGeom prst="leftRightArrow">
            <a:avLst>
              <a:gd name="adj1" fmla="val 42648"/>
              <a:gd name="adj2" fmla="val 174506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8436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36000" y="1773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67564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36000" y="1916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67640" y="1989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35280" y="1773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76720" y="436572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送信処理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が行われた上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nd_packet_blocking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信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451640" y="549360"/>
            <a:ext cx="1152720" cy="503280"/>
          </a:xfrm>
          <a:prstGeom prst="wedgeRoundRectCallout">
            <a:avLst>
              <a:gd name="adj1" fmla="val -21763"/>
              <a:gd name="adj2" fmla="val 12823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MAC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が付かない場合もあ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あり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220500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256536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29973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8728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84360" y="256536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35280" y="256536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84360" y="2997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7164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35280" y="2997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64000" y="307008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80000" y="256536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256536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32720" y="2997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67640" y="307008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圧縮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内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の前に行わ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圧縮処理により、逆にペイロードが大きくなる場合もあ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19640" y="1773360"/>
            <a:ext cx="504720" cy="576000"/>
          </a:xfrm>
          <a:prstGeom prst="downArrow">
            <a:avLst>
              <a:gd name="adj1" fmla="val 50000"/>
              <a:gd name="adj2" fmla="val 2853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549360"/>
            <a:ext cx="216072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055960" y="1268280"/>
            <a:ext cx="1436040" cy="287280"/>
            <a:chOff x="2055960" y="1268280"/>
            <a:chExt cx="1436040" cy="287280"/>
          </a:xfrm>
        </p:grpSpPr>
        <p:sp>
          <p:nvSpPr>
            <p:cNvPr id="92" name=""/>
            <p:cNvSpPr/>
            <p:nvPr/>
          </p:nvSpPr>
          <p:spPr>
            <a:xfrm>
              <a:off x="20559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4288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01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1744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04720" y="1268280"/>
              <a:ext cx="28728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3995640" y="907920"/>
            <a:ext cx="50508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00720" y="9079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lib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92360" y="1268280"/>
            <a:ext cx="1656000" cy="287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92360" y="83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148360" y="836640"/>
            <a:ext cx="50328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0920" y="1557360"/>
            <a:ext cx="4334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48360" y="1557360"/>
            <a:ext cx="4316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24360" y="184464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構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24360" y="2565360"/>
            <a:ext cx="1655640" cy="287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84360" y="3500280"/>
            <a:ext cx="4248360" cy="287640"/>
          </a:xfrm>
          <a:prstGeom prst="leftRightArrow">
            <a:avLst>
              <a:gd name="adj1" fmla="val 42648"/>
              <a:gd name="adj2" fmla="val 11959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84360" y="4365720"/>
            <a:ext cx="5688000" cy="287280"/>
          </a:xfrm>
          <a:prstGeom prst="leftRightArrow">
            <a:avLst>
              <a:gd name="adj1" fmla="val 42648"/>
              <a:gd name="adj2" fmla="val 160321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84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32720" y="2852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172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37893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46530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13T16:20:30Z</dcterms:modified>
  <cp:revision>276</cp:revision>
  <dc:subject/>
  <dc:title>DDEのしくみ</dc:title>
</cp:coreProperties>
</file>