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FD8-35B6-43B5-A72E-8A9FF4A9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4F0-8F46-430A-8250-A1835A4D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F25-88A2-4ECD-AEB2-5A62990D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96D-E014-41B0-9950-2D3BDF48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F60-C6A9-4F7F-9C7C-49182A19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B88-9AAE-4DD7-B7BC-294EFE5E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6C2-F8CD-4BA2-8F5E-579EB132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7EF-16A4-4C13-8448-D2131FAD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653-D1AD-4E3F-8678-92A349D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D6B-C76B-439E-B01D-605E83E9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2A3-CABA-4804-A8B6-35E78F00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F71-4D5C-4E9B-AF3D-8FA9CAC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2862-D5B5-4089-ACFE-D0A7F7FBA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971800"/>
            <a:ext cx="2895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27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568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8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548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426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340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3610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505320"/>
            <a:ext cx="1447920" cy="7596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657600"/>
            <a:ext cx="144792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373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8640" y="383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7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61080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R with pl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89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720" y="27424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+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19920" y="3352680"/>
            <a:ext cx="2895120" cy="76320"/>
            <a:chOff x="6019920" y="3352680"/>
            <a:chExt cx="2895120" cy="76320"/>
          </a:xfrm>
        </p:grpSpPr>
        <p:sp>
          <p:nvSpPr>
            <p:cNvPr id="61" name=""/>
            <p:cNvSpPr/>
            <p:nvPr/>
          </p:nvSpPr>
          <p:spPr>
            <a:xfrm>
              <a:off x="601992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9360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250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728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3352680"/>
            <a:ext cx="2895120" cy="76320"/>
            <a:chOff x="228600" y="3352680"/>
            <a:chExt cx="2895120" cy="76320"/>
          </a:xfrm>
        </p:grpSpPr>
        <p:sp>
          <p:nvSpPr>
            <p:cNvPr id="66" name=""/>
            <p:cNvSpPr/>
            <p:nvPr/>
          </p:nvSpPr>
          <p:spPr>
            <a:xfrm>
              <a:off x="22860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22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376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6596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28532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00:05Z</dcterms:created>
  <dc:creator>Matt Abarbanel</dc:creator>
  <dc:description/>
  <dc:language>en-US</dc:language>
  <cp:lastModifiedBy>Matt Abarbanel</cp:lastModifiedBy>
  <dcterms:modified xsi:type="dcterms:W3CDTF">2008-02-06T09:29:42Z</dcterms:modified>
  <cp:revision>6</cp:revision>
  <dc:subject/>
  <dc:title>PowerPoint Presentation</dc:title>
</cp:coreProperties>
</file>