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F34-E416-44D3-95BA-E73CF720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6025-4689-4031-90AA-A76DBDFA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955-0416-470B-9679-65C9B368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4D6-EC12-4BDC-9DAB-B83EFF8A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4AF3-C610-40B8-A87B-B7B0583E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165-B3FE-4CAC-B8D3-37C4E2B9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8D0-4999-48E1-AC61-3A36CEAD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235-0322-4358-A930-862B0DBA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490-532F-4318-8028-8E2DBC6C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1DE-98C3-4581-B213-F9464143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247-CC22-455D-A3FF-BF58A03B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4C8-3ABB-467F-9FC4-494C9387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B26A-09BD-4C1C-8786-0930637C0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971800"/>
            <a:ext cx="28954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3360" y="2742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568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3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8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548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426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6340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680" y="361080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a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505320"/>
            <a:ext cx="1447920" cy="7596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657600"/>
            <a:ext cx="1447920" cy="7632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5360" y="37332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38640" y="3839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7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361080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OR with plai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971800"/>
            <a:ext cx="2895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44720" y="274248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+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19920" y="3352680"/>
            <a:ext cx="2895120" cy="76320"/>
            <a:chOff x="6019920" y="3352680"/>
            <a:chExt cx="2895120" cy="76320"/>
          </a:xfrm>
        </p:grpSpPr>
        <p:sp>
          <p:nvSpPr>
            <p:cNvPr id="61" name=""/>
            <p:cNvSpPr/>
            <p:nvPr/>
          </p:nvSpPr>
          <p:spPr>
            <a:xfrm>
              <a:off x="601992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9360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250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75728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" y="3352680"/>
            <a:ext cx="2895120" cy="76320"/>
            <a:chOff x="228600" y="3352680"/>
            <a:chExt cx="2895120" cy="76320"/>
          </a:xfrm>
        </p:grpSpPr>
        <p:sp>
          <p:nvSpPr>
            <p:cNvPr id="66" name=""/>
            <p:cNvSpPr/>
            <p:nvPr/>
          </p:nvSpPr>
          <p:spPr>
            <a:xfrm>
              <a:off x="22860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022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376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96596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28532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7:00:05Z</dcterms:created>
  <dc:creator>Matt Abarbanel</dc:creator>
  <dc:description/>
  <dc:language>en-US</dc:language>
  <cp:lastModifiedBy>Matt Abarbanel</cp:lastModifiedBy>
  <dcterms:modified xsi:type="dcterms:W3CDTF">2008-02-06T09:29:42Z</dcterms:modified>
  <cp:revision>6</cp:revision>
  <dc:subject/>
  <dc:title>PowerPoint Presentation</dc:title>
</cp:coreProperties>
</file>