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2BB-8936-41FB-998C-A7B36F3E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03B-6563-4DDB-8B9B-46DCFD9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AF8-ED7F-4F38-A2F9-FE89D72A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776-9DC0-40ED-8265-3DF4ADA7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FFB-DC01-47B4-946A-6AA69390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55E-3C95-470E-AE1C-207FB507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82F1-122D-41ED-B296-AB5F24D0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0D9-89C3-40FD-9B9B-FBAD9B48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6FE-DB30-48E7-9AC6-9E6E975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DB2-15B4-45C3-83C4-917AC4BE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C15-9492-4C54-8D9B-5FCB33E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EB8-DB29-452E-B302-C5BB888E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0C42-032E-4073-88FF-C27D7600D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971800"/>
            <a:ext cx="289548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29718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360" y="2742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568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3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8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548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4264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6340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361080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a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505320"/>
            <a:ext cx="1447920" cy="7596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657600"/>
            <a:ext cx="144792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0" y="0"/>
                </a:moveTo>
                <a:lnTo>
                  <a:pt x="0" y="48"/>
                </a:lnTo>
                <a:lnTo>
                  <a:pt x="1824" y="48"/>
                </a:lnTo>
                <a:lnTo>
                  <a:pt x="18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5360" y="37332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38640" y="383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7920" y="27424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610800"/>
            <a:ext cx="14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OR with plai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971800"/>
            <a:ext cx="289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3__x0016__x0016__x0003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44720" y="274248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6+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19920" y="3352680"/>
            <a:ext cx="2895120" cy="76320"/>
            <a:chOff x="6019920" y="3352680"/>
            <a:chExt cx="2895120" cy="76320"/>
          </a:xfrm>
        </p:grpSpPr>
        <p:sp>
          <p:nvSpPr>
            <p:cNvPr id="61" name=""/>
            <p:cNvSpPr/>
            <p:nvPr/>
          </p:nvSpPr>
          <p:spPr>
            <a:xfrm>
              <a:off x="601992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9360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250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728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600" y="3352680"/>
            <a:ext cx="2895120" cy="76320"/>
            <a:chOff x="228600" y="3352680"/>
            <a:chExt cx="2895120" cy="76320"/>
          </a:xfrm>
        </p:grpSpPr>
        <p:sp>
          <p:nvSpPr>
            <p:cNvPr id="66" name=""/>
            <p:cNvSpPr/>
            <p:nvPr/>
          </p:nvSpPr>
          <p:spPr>
            <a:xfrm>
              <a:off x="22860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228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3760" y="3429000"/>
              <a:ext cx="1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965960" y="3352680"/>
              <a:ext cx="1157760" cy="76320"/>
            </a:xfrm>
            <a:custGeom>
              <a:avLst/>
              <a:gdLst/>
              <a:ahLst/>
              <a:rect l="l" t="t" r="r" b="b"/>
              <a:pathLst>
                <a:path w="480" h="48">
                  <a:moveTo>
                    <a:pt x="0" y="0"/>
                  </a:moveTo>
                  <a:lnTo>
                    <a:pt x="0" y="48"/>
                  </a:lnTo>
                  <a:lnTo>
                    <a:pt x="480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285320" y="2742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7:00:05Z</dcterms:created>
  <dc:creator>Matt Abarbanel</dc:creator>
  <dc:description/>
  <dc:language>en-US</dc:language>
  <cp:lastModifiedBy>Matt Abarbanel</cp:lastModifiedBy>
  <dcterms:modified xsi:type="dcterms:W3CDTF">2008-02-06T09:29:42Z</dcterms:modified>
  <cp:revision>6</cp:revision>
  <dc:subject/>
  <dc:title>PowerPoint Presentation</dc:title>
</cp:coreProperties>
</file>