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017-5E9B-4686-A803-07E30664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14B-67B2-44FA-994C-E89E84DC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32B-24B1-445D-95D6-5C7AA6E0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9B77-6105-4FA6-8E9E-D3328B37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A7A5-BB03-491D-8614-03830412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540-4286-4D93-8457-46FA67D3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AB9-B85B-4B2B-98E4-092687FB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FED5-6073-469B-86F7-CB09F2C5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C242-221A-4FB7-9AB7-DA124DF3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918E-56D0-489D-8B48-AF8CB8F5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4FF2-6C99-462D-949F-239834CC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164-B324-413F-8EFA-296526B0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C85D-4324-4868-85B7-CD2B4B7C3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971800"/>
            <a:ext cx="28954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9718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9718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3360" y="2742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5680" y="2742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4392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184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548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4264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6340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680" y="361080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a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3505320"/>
            <a:ext cx="1447920" cy="7596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0" y="0"/>
                </a:moveTo>
                <a:lnTo>
                  <a:pt x="0" y="48"/>
                </a:lnTo>
                <a:lnTo>
                  <a:pt x="1824" y="48"/>
                </a:lnTo>
                <a:lnTo>
                  <a:pt x="18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657600"/>
            <a:ext cx="1447920" cy="7632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0" y="0"/>
                </a:moveTo>
                <a:lnTo>
                  <a:pt x="0" y="48"/>
                </a:lnTo>
                <a:lnTo>
                  <a:pt x="1824" y="48"/>
                </a:lnTo>
                <a:lnTo>
                  <a:pt x="18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5360" y="37332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38640" y="3839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792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361080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OR with plai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2971800"/>
            <a:ext cx="2895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44720" y="274248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6+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19920" y="3352680"/>
            <a:ext cx="2895120" cy="76320"/>
            <a:chOff x="6019920" y="3352680"/>
            <a:chExt cx="2895120" cy="76320"/>
          </a:xfrm>
        </p:grpSpPr>
        <p:sp>
          <p:nvSpPr>
            <p:cNvPr id="61" name=""/>
            <p:cNvSpPr/>
            <p:nvPr/>
          </p:nvSpPr>
          <p:spPr>
            <a:xfrm>
              <a:off x="601992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9360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2508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75728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" y="3352680"/>
            <a:ext cx="2895120" cy="76320"/>
            <a:chOff x="228600" y="3352680"/>
            <a:chExt cx="2895120" cy="76320"/>
          </a:xfrm>
        </p:grpSpPr>
        <p:sp>
          <p:nvSpPr>
            <p:cNvPr id="66" name=""/>
            <p:cNvSpPr/>
            <p:nvPr/>
          </p:nvSpPr>
          <p:spPr>
            <a:xfrm>
              <a:off x="22860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0228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3376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196596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285320" y="2742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7:00:05Z</dcterms:created>
  <dc:creator>Matt Abarbanel</dc:creator>
  <dc:description/>
  <dc:language>en-US</dc:language>
  <cp:lastModifiedBy>Matt Abarbanel</cp:lastModifiedBy>
  <dcterms:modified xsi:type="dcterms:W3CDTF">2008-02-06T09:29:42Z</dcterms:modified>
  <cp:revision>6</cp:revision>
  <dc:subject/>
  <dc:title>PowerPoint Presentation</dc:title>
</cp:coreProperties>
</file>