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DD2-75B0-47BB-BC61-1D5E4960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34C-42FA-4FDC-848E-EFA12348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A10-1C26-43BF-9FC4-18667A57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028-FDB2-407E-B425-04D9CBDC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AE2-9D43-44C7-B61F-EB0E130E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285-AE76-4D05-A29B-8E04DFE3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EB52-BFBF-473F-8635-AE93A18F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2E4-8557-4B7A-8316-B84B335E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C16-F7C2-4B1B-BAAC-FF3923FF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A8A-FA70-4CC3-A589-BA9AA310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63B-4525-41B3-8F1C-18DD270F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38C-8262-47D3-BD3A-14EA911A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2311-7795-420C-9A81-04811DA61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971800"/>
            <a:ext cx="28954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3360" y="2742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568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8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548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426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6340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680" y="361080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a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505320"/>
            <a:ext cx="1447920" cy="7596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657600"/>
            <a:ext cx="1447920" cy="7632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5360" y="3733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38640" y="3839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7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61080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R with plai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971800"/>
            <a:ext cx="2895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44720" y="274248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+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19920" y="3352680"/>
            <a:ext cx="2895120" cy="76320"/>
            <a:chOff x="6019920" y="3352680"/>
            <a:chExt cx="2895120" cy="76320"/>
          </a:xfrm>
        </p:grpSpPr>
        <p:sp>
          <p:nvSpPr>
            <p:cNvPr id="61" name=""/>
            <p:cNvSpPr/>
            <p:nvPr/>
          </p:nvSpPr>
          <p:spPr>
            <a:xfrm>
              <a:off x="601992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9360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250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75728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" y="3352680"/>
            <a:ext cx="2895120" cy="76320"/>
            <a:chOff x="228600" y="3352680"/>
            <a:chExt cx="2895120" cy="76320"/>
          </a:xfrm>
        </p:grpSpPr>
        <p:sp>
          <p:nvSpPr>
            <p:cNvPr id="66" name=""/>
            <p:cNvSpPr/>
            <p:nvPr/>
          </p:nvSpPr>
          <p:spPr>
            <a:xfrm>
              <a:off x="22860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22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376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96596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28532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7:00:05Z</dcterms:created>
  <dc:creator>Matt Abarbanel</dc:creator>
  <dc:description/>
  <dc:language>en-US</dc:language>
  <cp:lastModifiedBy>Matt Abarbanel</cp:lastModifiedBy>
  <dcterms:modified xsi:type="dcterms:W3CDTF">2008-02-06T09:29:42Z</dcterms:modified>
  <cp:revision>6</cp:revision>
  <dc:subject/>
  <dc:title>PowerPoint Presentation</dc:title>
</cp:coreProperties>
</file>