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1CF9-181F-418F-8593-36086E45A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9CD9-D81B-4F60-B005-6EB9C53E893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493C-5B45-4D16-BA29-F221DCEAF26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B4DA-CA54-4E25-B158-5F08AE161A1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1FE3-58CD-4EDB-ACCB-B13FB9E3C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259E-2F1B-4B66-AB58-8E543673F0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0D4C-F459-415B-8A47-4E60B75E23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5DF5-A49E-433B-ADB6-5EE7E0D8D3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8EED-2193-4A84-8317-C190EB9C9D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FA14-AAB6-4F32-A03E-6FB3B6E712F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0082-0619-46E6-ACE6-DB41178064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BE95-4710-4BEC-85BF-B5A9DF6C149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8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93992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A949-548C-4482-AB35-88E7529CDE8B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8445600" y="7207200"/>
            <a:ext cx="1587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marL="62496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4600" y="383508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3000"/>
          </a:bodyPr>
          <a:p>
            <a:pPr marL="20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44600" y="119376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moku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10159920" cy="847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otki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ific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 Butler &amp; Peter Silb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88AA-188F-4A07-A2FB-6BC49FAA77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Kernel 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ng system is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rely on process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when portions of a driver are p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03F0-B207-4964-9637-DCFA35BAEC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6255720" y="971640"/>
            <a:ext cx="2128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SystemServi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67200" y="1185840"/>
            <a:ext cx="507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7470720" y="475776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44F7-23D0-429C-A8C6-A0D16B64DAF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180120" y="1269720"/>
            <a:ext cx="1185840" cy="1608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454C-54B2-48D7-9E28-E688E3E192A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7027920" y="406404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180120" y="2878200"/>
            <a:ext cx="135576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37D8-A16A-41A4-803D-D5CDEC31604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281720" y="677880"/>
            <a:ext cx="2422800" cy="23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592200" y="762120"/>
            <a:ext cx="2625840" cy="338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440000"/>
            <a:ext cx="2286000" cy="14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1573200"/>
            <a:ext cx="26258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910040" y="2963880"/>
            <a:ext cx="932040" cy="24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910040" y="3301920"/>
            <a:ext cx="932040" cy="338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317840" y="3301920"/>
            <a:ext cx="93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7377120" y="846000"/>
            <a:ext cx="220032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7461360" y="932040"/>
            <a:ext cx="2031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t!NtCreateFil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jmp 0008:11223344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519960" y="3471840"/>
            <a:ext cx="3132000" cy="211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688080" y="3639960"/>
            <a:ext cx="2625840" cy="17780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942240" y="3726000"/>
            <a:ext cx="253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di,ed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bp,es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p nt!NtCreateFile+0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101592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09720" y="1353960"/>
            <a:ext cx="2370240" cy="33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995720" y="1440000"/>
            <a:ext cx="168480" cy="194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374240" y="254016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826160" y="533412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57840" y="1777680"/>
            <a:ext cx="177804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027560" y="2116080"/>
            <a:ext cx="50796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920" y="1608120"/>
            <a:ext cx="424080" cy="2201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6DDF-97ED-47DC-9D1F-9EF702A939E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alls used to sen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eviceIoControl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Writ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are converted to I/O Request Packets (IR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delivered to lower leve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C947-8ADB-442A-BBE8-72C017D3A57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river is represented by a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handled by a set of 28 function pointers within the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otkit can hook one of these function pointers to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9AD3-F1D5-4EAC-9A3E-00920EF37CC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rupt Descriptor Table H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PU has an 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T contains pointers to Interrupt Service Routines (IS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or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ver the virtual memory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ep the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keystro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7EC7-3390-4024-98C3-6BFB24E9B10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marL="59256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the EPROCESS block of the process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rivilege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Group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the Token to Fool the Windows Ev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0A8F-AE4A-4E47-A3F7-26498944726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 - Wind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13080" y="6781680"/>
            <a:ext cx="5249520" cy="339480"/>
            <a:chOff x="2413080" y="6781680"/>
            <a:chExt cx="5249520" cy="339480"/>
          </a:xfrm>
        </p:grpSpPr>
        <p:sp>
          <p:nvSpPr>
            <p:cNvPr id="555" name=""/>
            <p:cNvSpPr/>
            <p:nvPr/>
          </p:nvSpPr>
          <p:spPr>
            <a:xfrm>
              <a:off x="2481480" y="7090560"/>
              <a:ext cx="5181120" cy="30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84120" y="6781680"/>
              <a:ext cx="68400" cy="30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13080" y="6842880"/>
              <a:ext cx="137520" cy="278280"/>
            </a:xfrm>
            <a:prstGeom prst="upArrow">
              <a:avLst>
                <a:gd name="adj1" fmla="val 50000"/>
                <a:gd name="adj2" fmla="val 5058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2184480" y="1676520"/>
          <a:ext cx="5962680" cy="50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4480" y="1676520"/>
                    <a:ext cx="59626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2336760" y="4572000"/>
            <a:ext cx="5105520" cy="1404720"/>
            <a:chOff x="2336760" y="4572000"/>
            <a:chExt cx="5105520" cy="1404720"/>
          </a:xfrm>
        </p:grpSpPr>
        <p:sp>
          <p:nvSpPr>
            <p:cNvPr id="561" name=""/>
            <p:cNvSpPr/>
            <p:nvPr/>
          </p:nvSpPr>
          <p:spPr>
            <a:xfrm rot="5400000">
              <a:off x="6653880" y="5188320"/>
              <a:ext cx="1404720" cy="172080"/>
            </a:xfrm>
            <a:prstGeom prst="rightArrow">
              <a:avLst>
                <a:gd name="adj1" fmla="val 50000"/>
                <a:gd name="adj2" fmla="val 20407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36760" y="4572000"/>
              <a:ext cx="5048280" cy="137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36760" y="4572000"/>
              <a:ext cx="57240" cy="137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3873-CCC4-48A2-BFFA-5821674E0644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 Silb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phomore Colleg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Security Resear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F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or to openRCE.org (VISIT THE S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But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O of Komok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omoku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att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ki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otkits: Subverting the Windows 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uthor of Shadow Walker proof-of-concept memory subversion rootk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 of Direct Kernel Object Manipulation (DK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B73B-3B0D-4325-B2B7-870C6E0D708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o – Hiding From the 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formed Journal Vol. 3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 of FU hence the ‘T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s from IceSword and Black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patched on 2/17/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itself from the 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09E7-7937-414D-93FC-09EDB137473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pCidTable (PspPidTab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’s indexes are the PIDs of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37CB-13D4-495E-A6AB-04CA7F0C29A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Th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143000"/>
            <a:ext cx="92203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are an index into the Handle Table for a particula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epresent processes, threads, tokens, events, por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must do the translation from a handle to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rocess has its own handle table to keep track of the handles it 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FA29-893A-40F6-83D5-7486B98BBCC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Handl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636040" cy="58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kd&gt; dt nt!_HANDLE_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0 TableCode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4 QuotaProcess                  : Ptr32 _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8 UniqueProcessId            : Ptr32 Vo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c HandleTableLock           : [4]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1c HandleTableList             : _LIST_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4 HandleContentionEvent :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8 DebugInfo                      : Ptr32 _HANDLE_TRACE_DEBUG_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c ExtraInfoPages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0 FirstFree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4 LastFree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8 NextHandleNeedingPool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c HandleCount    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Flags     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StrictFIFO                      : Pos 0, 1 B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62D3-954D-4823-82E1-81B1C733481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440" y="2924280"/>
            <a:ext cx="3065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290520" y="1523880"/>
            <a:ext cx="4451400" cy="2963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38040" y="1778040"/>
            <a:ext cx="44881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608120" y="4038480"/>
            <a:ext cx="101592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842080" y="1185840"/>
            <a:ext cx="330192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434280" y="3979800"/>
            <a:ext cx="0" cy="101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434280" y="5334120"/>
            <a:ext cx="507960" cy="118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651996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832200"/>
            <a:ext cx="4572000" cy="3398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587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925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61801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519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1960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53588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7873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211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518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8898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2282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5677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180120" y="3832200"/>
            <a:ext cx="33984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25592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418000" y="254016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sGetCurrentProcessById() 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DF38-C5DE-40CA-A4D8-E0B046D80B0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06440" y="2924280"/>
            <a:ext cx="306540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0520" y="1854360"/>
            <a:ext cx="4451400" cy="26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778040" y="4317840"/>
            <a:ext cx="846000" cy="127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925960" y="1608120"/>
            <a:ext cx="330228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7450200" y="618012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002120"/>
            <a:ext cx="4572000" cy="3380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5587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925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1801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6519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1960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753588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8211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85518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88898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92282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95677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6180120" y="400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44258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418000" y="268128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PsGetCurrentProcessById()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254160" y="1860480"/>
            <a:ext cx="448776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193760" y="84240"/>
            <a:ext cx="8458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25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3E8C-BC78-4A58-BA59-5A3F85E288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ct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light B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in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hidden process and file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word 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tool offe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DT Hook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ile and Registry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orts and socket communication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fla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ications rely upon the PspCidTable for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AC7D-994B-4FFB-9C5C-32A20B70600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695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cting Hidden Process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ID Brute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0" y="1185480"/>
            <a:ext cx="10159920" cy="62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(Pre-Valentine’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eforces PIDs 0x0 - 0x4E1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OpenProcess on each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uccess store valid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Continu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differences are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Cross-View method or Difference Based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8897-6938-4156-BC4D-7364A0A32AE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6529-4ED9-4AB9-AEB3-DA7FF9390B6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RA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RAIDE different than Blacklight, RKDetector, Rootkit Revealer, VICE, SVV, SDTRest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89F0-82DA-4907-98FF-2D05AB931BD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219320"/>
            <a:ext cx="922032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ddress Table (I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rviceDescript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y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/O Request Packet (I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Descriptor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ng Hidde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 using 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E2AF-6EBA-49D0-BEF2-F57F287A32F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86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is a complete toolkit offer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nsic Capabilities (RKDet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Detection (Black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Detection (SDTRestore, SVV, 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Restoration (SDTRestore, SV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T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 Subversion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Fea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nk processes to make i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Method Detection – Example hook, DKO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FEAC-ED14-4287-A759-2DFE3D88612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RAIDE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combines most exis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etects Memory Sub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gives the user more information about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IOCTL’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918F-8F41-407B-9FAA-259EB1DC6F4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detect hidden files, folders,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Driver IRP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prevent a rootkit from 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2B20-941D-4DDB-939A-82D9889FB6F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Commun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uses Shared Memory segments to pass information kernel lan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r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Memory contains only encryp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uses randomly named events for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randomly generated process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A653-338D-4087-B01B-F5E214912F4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can not be zero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must not have false pos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DAC4-E2CF-49D4-9E0A-4C85142C5F0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pointers to “ServiceTabl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ed in all E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 a process with random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processes list visible to RA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4DDC-9E78-4596-B730-3D436FD10A5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Method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hidden in both it uses the FUTo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A9EA-64F3-41F5-99CA-DDD6E1CFED5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10159920" cy="761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 Walker Detec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minating the Sha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10159920" cy="56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 Walker relies on IDT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DT 0x0e for a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 could modify itself to hide the IDT hook with an inline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etection schemes o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pp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mapping, we mean remapping a given physical frame to a new virtual address (i.e. like the shared memory concep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4F59-0479-4001-B5B3-74AA5A56BAD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SSDT entry overwrite hook is de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KeServiceDescriptorTable from file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address for hooked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culat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hook” SSDT index with origin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F43A-1BE0-403F-8F3E-C712614B79D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an inline ho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func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first few instru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first few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store as many instruction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7D3A-3F3E-4D46-B201-CC469515102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tk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or Modifies existing execution paths of important operating system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point of a rootkit is st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of 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binaries like ls, ps, du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login program to steal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CB3F-8B23-40F6-91FC-02512E13582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9874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offers the user forens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nking Processes DKOM Method in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es’ address spaces fo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2328-B8D5-486D-A189-F92EB460B2E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nk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is common hid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relies on unlinking the EPROCESS link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link pointers by passing the System EPROCESS and the hidden EPROCES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ertTai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user to se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982B-56E8-4F10-A564-7A73CAAE373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curity Analysts to reverse the executable or system file and see what it was do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matter if the file is originally hidden on the 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ed file is renamed and put in working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lets analyst bypass most packer and obfuscation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0CCA-0FC6-4668-809B-0F5A0A57282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: bugcheck, xbud, thief, skape, pedram, greg h, nologin/research’ers, f-secure labs. And my school for cutting me a break on midt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: Lil’ L, lonerancher, Barns, Greg, 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8C33-58D4-4CC2-84AF-4C448F4DE71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9CBC-DD0B-405E-A4EF-0A06FCA678D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E2BC-A16A-417D-8116-84668E9FED9E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User 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 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Remote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ly hooking Window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166E-E1F5-4298-A15E-8E93B3C869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5905800" y="2327400"/>
            <a:ext cx="26377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 Address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17840" y="254016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3894120" y="4572000"/>
            <a:ext cx="1947960" cy="169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910040" y="4233960"/>
            <a:ext cx="474192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27C9-9DB8-4F71-A730-87C3E619DD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455560" y="101592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349680" y="1947960"/>
            <a:ext cx="1523880" cy="321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433920" y="1947960"/>
            <a:ext cx="2793960" cy="31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265440" y="1777680"/>
            <a:ext cx="422280" cy="592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4A24-6F7F-4F77-9B5E-D5E209250A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741920" y="2031840"/>
            <a:ext cx="2116080" cy="245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90A4-F109-4CB0-A818-57EF3F85A7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4487760"/>
            <a:ext cx="1353960" cy="507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3039-E046-4313-9D7E-ADC4A78C12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Peter</cp:lastModifiedBy>
  <dcterms:modified xsi:type="dcterms:W3CDTF">2006-03-03T09:11:01Z</dcterms:modified>
  <cp:revision>17</cp:revision>
  <dc:subject/>
  <dc:title>Copilot: A high assurance integrity monitor</dc:title>
</cp:coreProperties>
</file>