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4545E-28DB-4564-B767-05939DB55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4C9CF-077A-4BE8-8D9F-0260B4599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69074-E30A-42EC-B4BC-F48577E816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B10F-238C-415F-AB75-DD858D914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F7B24-4B5E-4F08-83ED-BFB3DA7AC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16C4-45C6-45FC-A223-693CFB2AF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CB0-9ACD-44F6-A777-0A1D24E72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0967-83EE-45F9-9CCF-A656C2977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23A8-4E3F-4CBA-BEB3-A581E5401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2FD58-68CB-4742-B6FA-70F25B96F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0C4B7-0E4D-4B80-9B2B-B2827DCB3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D6814-0CEA-4D3C-8489-1A177C9D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70BDD-29E0-4F4A-85E1-0BF75578A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2EFA3-13D7-4DF8-8429-169E12D5C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63DE-5399-4B34-8A80-1CDA0BD41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78057-FCA1-4604-B967-78D482BC1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85E25-03F7-4083-A8EF-EC95EF987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173C3-F9C7-4DBF-B577-A573EE7A2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3F71F-B049-434E-8032-B94F52351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0A514-73C3-49F2-A545-26160E290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D5ED-934D-48CB-8468-6A44E5A68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09168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83360" y="3707280"/>
            <a:ext cx="294408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9CB7-608C-432F-B71F-B3B8D31F4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18D7-8F6D-4D04-9684-38D5AC90D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01CC7-7422-4E5F-93C3-F139FFFBF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E1BF-BE1C-4503-9BD2-64C6FE3CB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4596-82E6-453A-8B16-68C92AE47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2D5C-AAC9-41DB-8156-457FB0C9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760" y="370728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274E-6504-4CA0-BB34-2BA0700AB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9000"/>
            <a:ext cx="91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0" y="3707280"/>
            <a:ext cx="9144000" cy="26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58D5-DA92-40A0-8773-9F568687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9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533520" indent="-533520">
              <a:spcBef>
                <a:spcPts val="7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533520" indent="-533520">
              <a:spcBef>
                <a:spcPts val="7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019920" y="6629040"/>
            <a:ext cx="31240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sert YOUR company nam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333333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&lt;footer&gt;</a:t>
            </a:r>
            <a:r>
              <a:rPr b="0" lang="en-US" sz="1000" spc="-1" strike="noStrike">
                <a:solidFill>
                  <a:srgbClr val="333333"/>
                </a:solidFill>
                <a:latin typeface="Tahoma"/>
              </a:rPr>
              <a:t>Jamie Butler &amp; Peter Silberm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6969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936A7-F944-4434-99F2-989E48C69810}" type="slidenum">
              <a:rPr b="0" lang="en-US" sz="1000" spc="-1" strike="noStrike">
                <a:solidFill>
                  <a:srgbClr val="969696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96969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basic_mdl_flags.zip" TargetMode="External"/><Relationship Id="rId3" Type="http://schemas.openxmlformats.org/officeDocument/2006/relationships/hyperlink" Target="http://www.rootkit.com/vault/hoglund/basic_mdl_flags.zip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hoglund/migbot.zip" TargetMode="External"/><Relationship Id="rId3" Type="http://schemas.openxmlformats.org/officeDocument/2006/relationships/hyperlink" Target="http://www.rootkit.com/vault/hoglund/migbot.zip" TargetMode="External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TCPIRPHook.zip" TargetMode="External"/><Relationship Id="rId3" Type="http://schemas.openxmlformats.org/officeDocument/2006/relationships/hyperlink" Target="http://www.rootkit.com/vault/fuzen_op/TCPIRPHook.zip" TargetMode="External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bugcheck.org/code/bytehook.zip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vault/fuzen_op/SysEnterHook.zip" TargetMode="External"/><Relationship Id="rId3" Type="http://schemas.openxmlformats.org/officeDocument/2006/relationships/hyperlink" Target="http://www.rootkit.com/vault/fuzen_op/SysEnterHook.zip" TargetMode="Externa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hoglund/rk_044.zip" TargetMode="Externa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s://www.rootkit.com/vault/fuzen_op/FU_Rootkit.zip" TargetMode="External"/><Relationship Id="rId3" Type="http://schemas.openxmlformats.org/officeDocument/2006/relationships/hyperlink" Target="https://www.rootkit.com/vault/fuzen_op/FU_Rootkit.zip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openrce.org/" TargetMode="External"/><Relationship Id="rId3" Type="http://schemas.openxmlformats.org/officeDocument/2006/relationships/hyperlink" Target="http://www.openrce.org/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ootkit.com/newsread.php?newsid=501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37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R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ootkit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nalysis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entification 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c0c0c0"/>
                </a:solidFill>
                <a:latin typeface="Arial Black"/>
              </a:rPr>
              <a:t>limination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75960" y="3657600"/>
            <a:ext cx="9104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8CC3E-CF49-4952-94D4-0FB53F4D823E}" type="slidenum">
              <a:t>1</a:t>
            </a:fld>
          </a:p>
        </p:txBody>
      </p:sp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Entry Overwr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934320" y="3657600"/>
            <a:ext cx="1904760" cy="106668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715000" y="3200400"/>
            <a:ext cx="1679400" cy="757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10280" y="464832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609588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basic_mdl_flags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829-E6AE-435F-A53D-03BCE5B5A3FF}" type="slidenum">
              <a:t>10</a:t>
            </a:fld>
          </a:p>
        </p:txBody>
      </p:sp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Inline Hook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119560" y="2438280"/>
            <a:ext cx="990720" cy="243864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119560" y="24382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119560" y="27432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119560" y="30481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119560" y="33526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119560" y="36576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119560" y="3962520"/>
            <a:ext cx="990720" cy="304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19560" y="426708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119560" y="4572000"/>
            <a:ext cx="990720" cy="30492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49712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629400" y="1447920"/>
            <a:ext cx="2209680" cy="121896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81680" y="1143000"/>
            <a:ext cx="198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429000"/>
            <a:ext cx="2210040" cy="1447920"/>
          </a:xfrm>
          <a:prstGeom prst="rect">
            <a:avLst/>
          </a:prstGeom>
          <a:solidFill>
            <a:srgbClr val="ff00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086600" y="48769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Rootkit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5410080" y="1676520"/>
            <a:ext cx="152640" cy="1447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781680" y="1523880"/>
            <a:ext cx="1905120" cy="10576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mp 0008:11223344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 flipV="1">
            <a:off x="5715000" y="2209680"/>
            <a:ext cx="17524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086600" y="3432240"/>
            <a:ext cx="175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[…]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di,edi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ush    eb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ov     ebp,esp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jmp nt!NtCreateFile+08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7086240" y="25146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8153280" y="2361960"/>
            <a:ext cx="7632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80880" y="6172200"/>
            <a:ext cx="647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hoglund/migbot.zip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002B-2428-446D-86AF-18A39F14BF9F}" type="slidenum">
              <a:t>11</a:t>
            </a:fld>
          </a:p>
        </p:txBody>
      </p:sp>
    </p:spTree>
  </p:cSld>
  <p:transition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/O Manager IRP Hoo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tem calls used to send command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eviceIoControl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WriteFi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tc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quests are converted to I/O Request Packets (IRP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RPs are delivered to lower level driv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CPIRP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TCPIRP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ny and every firewal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421B-014A-4BCE-B00E-A10DFBEA58A1}" type="slidenum">
              <a:t>12</a:t>
            </a:fld>
          </a:p>
        </p:txBody>
      </p:sp>
    </p:spTree>
  </p:cSld>
  <p:transition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errupt Hookin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ach CPU has an ID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DT contains pointers to Interrupt Service Routines (ISR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ses for IDT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ake over the virtual memory manag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ngle step the processo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tercept keystrok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verflowGuar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dow Walk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neByte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bugcheck.org/code/byte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852A-3420-4FFD-9591-A9CC173087FA}" type="slidenum">
              <a:t>13</a:t>
            </a:fld>
          </a:p>
        </p:txBody>
      </p:sp>
    </p:spTree>
  </p:cSld>
  <p:transition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Specific Reigsters (MS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ETER is the replacement for int 2E which passed control from user mode to kernel mode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loads EAX with the system call number (i.e. 0x25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DX is loaded with the current stack pointer ES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DLL executes the SYSENTER instru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YSENTER passes control to an address in the IA32_SYSENTER_EIP Model Specific Register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A32_SYSENTER_EIP is readable and writable but is a privileged instruc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ysEnterHook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SysEnterHook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A1B6-0F37-4C81-89C0-F2A713140544}" type="slidenum">
              <a:t>14</a:t>
            </a:fld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TRootkit By Greg Hogl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 the following functions to hide processes/files/registery entri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CreateThread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EnumerateValue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Key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DirectoryFile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QuerySystemInformation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Quite dated but was the first public rootkit of its kind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TRootkit (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www.rootkit.com/vault/hoglund/rk_044.zip</a:t>
            </a: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DBAF-09C0-4AF7-990E-DEBDE2474D59}" type="slidenum">
              <a:t>15</a:t>
            </a:fld>
          </a:p>
        </p:txBody>
      </p:sp>
    </p:spTree>
  </p:cSld>
  <p:transition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Circa 04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 by Jamie But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introduces Direct Kernel Object Manipulation and takes process  hiding to the next level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28120" indent="-5281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KOM can be used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a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Locate the EPROCESS block of the process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Privilege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dd Groups to Toke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anipulate the Token to Fool the Windows Event Viewer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ide Port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amples of this kind of system modification can be seen in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FU (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s://</a:t>
            </a:r>
            <a:r>
              <a:rPr b="0" lang="en-US" sz="18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rootkit.com/vault/fuzen_op/FU_Rootkit.zip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4A4F-2633-4CB5-962B-B2FE063410F6}" type="slidenum">
              <a:t>16</a:t>
            </a:fld>
          </a:p>
        </p:txBody>
      </p:sp>
    </p:spTree>
  </p:cSld>
  <p:transition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iding Processes - Window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2171880" y="6103800"/>
            <a:ext cx="4723920" cy="304920"/>
            <a:chOff x="2171880" y="6103800"/>
            <a:chExt cx="4723920" cy="304920"/>
          </a:xfrm>
        </p:grpSpPr>
        <p:sp>
          <p:nvSpPr>
            <p:cNvPr id="245" name=""/>
            <p:cNvSpPr/>
            <p:nvPr/>
          </p:nvSpPr>
          <p:spPr>
            <a:xfrm>
              <a:off x="2233440" y="6381000"/>
              <a:ext cx="4662360" cy="273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9440" bIns="-1944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24520" y="6103800"/>
              <a:ext cx="61560" cy="2750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71880" y="6158880"/>
              <a:ext cx="123840" cy="249840"/>
            </a:xfrm>
            <a:prstGeom prst="upArrow">
              <a:avLst>
                <a:gd name="adj1" fmla="val 50000"/>
                <a:gd name="adj2" fmla="val 50436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graphicFrame>
        <p:nvGraphicFramePr>
          <p:cNvPr id="248" name=""/>
          <p:cNvGraphicFramePr/>
          <p:nvPr/>
        </p:nvGraphicFramePr>
        <p:xfrm>
          <a:off x="1965240" y="1508040"/>
          <a:ext cx="5367600" cy="4575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965240" y="1508040"/>
                    <a:ext cx="5367600" cy="457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50" name=""/>
          <p:cNvGrpSpPr/>
          <p:nvPr/>
        </p:nvGrpSpPr>
        <p:grpSpPr>
          <a:xfrm>
            <a:off x="2103480" y="4114800"/>
            <a:ext cx="4594320" cy="1265040"/>
            <a:chOff x="2103480" y="4114800"/>
            <a:chExt cx="4594320" cy="1265040"/>
          </a:xfrm>
        </p:grpSpPr>
        <p:sp>
          <p:nvSpPr>
            <p:cNvPr id="251" name=""/>
            <p:cNvSpPr/>
            <p:nvPr/>
          </p:nvSpPr>
          <p:spPr>
            <a:xfrm rot="5400000">
              <a:off x="5987880" y="4669920"/>
              <a:ext cx="1265040" cy="154800"/>
            </a:xfrm>
            <a:prstGeom prst="rightArrow">
              <a:avLst>
                <a:gd name="adj1" fmla="val 50000"/>
                <a:gd name="adj2" fmla="val 204302"/>
              </a:avLst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03480" y="4114800"/>
              <a:ext cx="4542840" cy="1234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103480" y="4114800"/>
              <a:ext cx="51480" cy="12416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AA4-860D-450D-8D48-7F82A06F6EEA}" type="slidenum">
              <a:t>17</a:t>
            </a:fld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ss Hiding 0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HIDE2 – by 9021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move threads from KiWaitInListHead, KiWaitOutListHead and KiDispatcherReadyListHead and creates its own lists that it swaps in and out when it wants to give its own threads CPU tim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– by Peter Silberman &amp; CHA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informed Journal Vol. 3 (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ew version 2 of FU. Hence the ‘To’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es from IceSword and Blackligh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Option –pngh bypasses as of (06/26/06)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Blacklight  (F-Secur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AntiRootkit (BitDefender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elio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arkSpy does detection FUTo -ph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6BD2-D980-49E7-9E0F-C97697D7B013}" type="slidenum">
              <a:t>18</a:t>
            </a:fld>
          </a:p>
        </p:txBody>
      </p:sp>
    </p:spTree>
  </p:cSld>
  <p:transition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To – Modifying PspCidT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o removes itself from the PspCidT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spCidTable’s indexes are the PIDs of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blem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0A6B-CD73-48DA-8718-3D762A56D7F4}" type="slidenum">
              <a:t>19</a:t>
            </a:fld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Peter Silberm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Undergraduate College Student (*yuck*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ndependent Security Research 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FUTo, (soon to be released PAIMEIdiff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ributor to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www.openRCE.org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 (VISIT THE SITE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Jamie But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urrently Un-Employed…. </a:t>
            </a:r>
            <a:r>
              <a:rPr b="0" lang="en-US" sz="2400" spc="-1" strike="noStrike">
                <a:solidFill>
                  <a:srgbClr val="333333"/>
                </a:solidFill>
                <a:latin typeface="Wingdings"/>
                <a:ea typeface="Wingdings"/>
              </a:rPr>
              <a:t>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oftware attesta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 detection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uthor of </a:t>
            </a:r>
            <a:r>
              <a:rPr b="0" i="1" lang="en-US" sz="2400" spc="-1" strike="noStrike">
                <a:solidFill>
                  <a:srgbClr val="333333"/>
                </a:solidFill>
                <a:latin typeface="Arial"/>
              </a:rPr>
              <a:t>Rootkits: Subverting the Windows Kern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-author of Shadow Walker proof-of-concept memory subversion rootki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ioneer of Direct Kernel Object Manipulation (DKOM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28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2E6FE-8873-424A-81E2-253E8283976B}" type="slidenum">
              <a:t>2</a:t>
            </a:fld>
          </a:p>
        </p:txBody>
      </p:sp>
    </p:spTree>
  </p:cSld>
  <p:transition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andles are an index into the Handle Table for a particular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bjects represent processes, threads, tokens, events, ports, etc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must do the translation from a handle to an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very process has its own handle table to keep track of the handles it ow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5C1B-F314-44C9-B55A-F691BDEE9DC9}" type="slidenum">
              <a:t>20</a:t>
            </a:fld>
          </a:p>
        </p:txBody>
      </p:sp>
    </p:spTree>
  </p:cSld>
  <p:transition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rnel Structures: The 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kd&gt; dt nt!_HANDLE_T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0 TableCode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4 QuotaProcess                  : Ptr32 _E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08 UniqueProcessId            : Ptr32 Vo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0c HandleTableLock           : [4]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0x01c HandleTableList             : _LIST_EN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4 HandleContentionEvent : _EX_PUSH_L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8 DebugInfo                      : Ptr32 _HANDLE_TRACE_DEBUG_INF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2c ExtraInfoPages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0 FirstFree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4 LastFree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8 NextHandleNeedingPool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3c HandleCount                   : 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Flags                               : Uint4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0x040 StrictFIFO                      : Pos 0, 1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0BF-11CB-4745-BE69-69F2ECBFD16A}" type="slidenum">
              <a:t>21</a:t>
            </a:fld>
          </a:p>
        </p:txBody>
      </p:sp>
    </p:spTree>
  </p:cSld>
  <p:transition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3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3581280"/>
            <a:ext cx="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791320" y="4800600"/>
            <a:ext cx="457200" cy="10666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13F1D-0450-4069-916C-2CD54D29B8E2}" type="slidenum">
              <a:t>22</a:t>
            </a:fld>
          </a:p>
        </p:txBody>
      </p:sp>
    </p:spTree>
  </p:cSld>
  <p:transition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Handle Table Transl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9" name=""/>
          <p:cNvSpPr/>
          <p:nvPr/>
        </p:nvSpPr>
        <p:spPr>
          <a:xfrm>
            <a:off x="365040" y="2631960"/>
            <a:ext cx="2759040" cy="370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2080" y="1371600"/>
            <a:ext cx="4005000" cy="26668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04920" y="1317600"/>
            <a:ext cx="403848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est.exe ProcessId 152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ANDLE hProcess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Process = OpenProcess(PROCESS_ALL_ACCESS, 0, 132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f(hProcess == INVALID_HANDLE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 0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TerminateProcess(hProcess);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343400" y="1066680"/>
            <a:ext cx="304920" cy="5257800"/>
          </a:xfrm>
          <a:prstGeom prst="rect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447920" y="3635280"/>
            <a:ext cx="914400" cy="13716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3520" y="5029200"/>
            <a:ext cx="2971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ZwTerminateProcess(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3276720" y="1752480"/>
            <a:ext cx="1981080" cy="33530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257800" y="1066680"/>
            <a:ext cx="2971800" cy="6393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tTerminateProcess: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VOID obj = TranslateHandleToObject(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876920" y="4572000"/>
            <a:ext cx="4114800" cy="304920"/>
          </a:xfrm>
          <a:prstGeom prst="rect">
            <a:avLst/>
          </a:prstGeom>
          <a:solidFill>
            <a:srgbClr val="0066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105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410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6386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9436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2485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5530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8580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71629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4674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7724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07732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838188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686800" y="457200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057400" y="4114800"/>
            <a:ext cx="190512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Process = 0x03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4572000"/>
            <a:ext cx="30492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876920" y="495288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 1  2  3  ..  .. .. .. 80 81  82  83 84 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486400" y="5867280"/>
            <a:ext cx="2209680" cy="8301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: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Type = OBJ_PROCESS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bject        = 0x8014231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800600" y="3449520"/>
            <a:ext cx="4114800" cy="30492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334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5627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8672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1722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4771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7816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73915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76960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800100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0592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610480" y="344952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562720" y="3449520"/>
            <a:ext cx="304560" cy="304920"/>
          </a:xfrm>
          <a:prstGeom prst="rect">
            <a:avLst/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800600" y="3830760"/>
            <a:ext cx="4114800" cy="274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0 100  152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876920" y="2286000"/>
            <a:ext cx="4114800" cy="1012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lateHandleToObjec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 = PspCidTable[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sGetCurrentProcessById()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f( Process == NULL) return 0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turn Process-&gt;ObjectTable[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hProcess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];</a:t>
            </a:r>
            <a:endParaRPr b="0" lang="en-US" sz="12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2CB1-00CA-4078-8736-0F56682DE0A5}" type="slidenum">
              <a:t>23</a:t>
            </a:fld>
          </a:p>
        </p:txBody>
      </p:sp>
    </p:spTree>
  </p:cSld>
  <p:transition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ng Hidden Processes PID Brutefor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ack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uteforces PIDs 0x0 - 0x4E1C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s OpenThread on each PI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f Success store valid PI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lse Continue Loop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y differences are hidden process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alled Cross-View method or Difference Based Metho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2E89-2FF9-48F6-A93E-81678DA2FB54}" type="slidenum">
              <a:t>24</a:t>
            </a:fld>
          </a:p>
        </p:txBody>
      </p:sp>
    </p:spTree>
  </p:cSld>
  <p:transition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C1BFB-80CA-4453-9D0A-921954309D73}" type="slidenum">
              <a:t>25</a:t>
            </a:fld>
          </a:p>
        </p:txBody>
      </p:sp>
    </p:spTree>
  </p:cSld>
  <p:transition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Design Though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to be an all stop shop for most common rootkit detection nee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uses secure communication methods to prevent people from interfering with our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is not developed with a GUI and does not require any runtime dll’s/frameworks et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as designed for both advanced users who want the files for research and beginners who just want to be rootkit fre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E730B-B755-4283-8AAD-00539DBFBED5}" type="slidenum">
              <a:t>26</a:t>
            </a:fld>
          </a:p>
        </p:txBody>
      </p:sp>
    </p:spTree>
  </p:cSld>
  <p:transition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can run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XP – SP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 SP4 (Hasn’t been tested on earlier versions, feel free to donate copies and RAIDE will support all win2k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n 2k3 pre sp1 – Issues were found for post SP1 and support is currently in development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A530-D925-48B5-947C-D8E84DA90DD5}" type="slidenum">
              <a:t>27</a:t>
            </a:fld>
          </a:p>
        </p:txBody>
      </p:sp>
    </p:spTree>
  </p:cSld>
  <p:transition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AIDE Communication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communication designed to thwart Crappy And Stupid Application Specific Attacks (CASAS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IDE uses Shared Memory segments to pass information kernel la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se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hared Memory segment is randomly generat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ommunication uses randomly named events for signalin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es randomly generated process nam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he  spawned process looks like any other process spawned from userland.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45891-899A-4158-A612-B972AA8B6606}" type="slidenum">
              <a:t>28</a:t>
            </a:fld>
          </a:p>
        </p:txBody>
      </p:sp>
    </p:spTree>
  </p:cSld>
  <p:transition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IDE: What it is no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replacement for common sense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keep you rootkit free nor will it pick up every rootkit. It’s a cat and mouse g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find hidden files/directories/registry entries. There are no plans currently to suppor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does not restore driver IRPs/IDT/MSR hoo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at the moment identify hidden drivers, but there are plenty of applications out there to do s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IDE will not identify drivers hiding in plain sight as rootkits since they are not HIDDEN nor are they hiding ANYTH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6E19E-F884-4E8F-A1F2-9C9B86FA824D}" type="slidenum">
              <a:t>29</a:t>
            </a:fld>
          </a:p>
        </p:txBody>
      </p:sp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going to be covere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Quick Review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fine Rootkits &amp; Hoo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Userland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mport Address Table (I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Export Address Table (EAT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Kernel Hook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KeServiceDescriptor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133720" indent="-304920">
              <a:lnSpc>
                <a:spcPct val="90000"/>
              </a:lnSpc>
              <a:spcBef>
                <a:spcPts val="34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Entry (Index) Overwrite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/O Request Packet (IRP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Interrupt Descriptor Tabl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Model Specific Registers (MSR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rocess Hiding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Old School DKOM (FU)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New School FUTo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00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Previous Detection Technique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RAID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em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5847-0AE1-46E1-80D5-99DF88C020B8}" type="slidenum">
              <a:t>3</a:t>
            </a:fld>
          </a:p>
        </p:txBody>
      </p:sp>
    </p:spTree>
  </p:cSld>
  <p:transition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User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 mode check all “important” loaded module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IAT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point to the correct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function pointers don’t point to .reloc se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module’s E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point within the DL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ke sure the exported function pointers don’t point out of the .text sec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1388-3994-44D7-99C9-FBAE3D4ED8BF}" type="slidenum">
              <a:t>30</a:t>
            </a:fld>
          </a:p>
        </p:txBody>
      </p:sp>
    </p:spTree>
  </p:cSld>
  <p:transition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 (Kernel Hook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Kernel mod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ify KiSystemServiceDescriptorTable (SSDT) function pointer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sure the function pointers point within NTOSKRN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ify each SSDT function’s have not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ad ntoskrnl off of disk and and compare the instruct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DT make sure the handlers point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eck within the preamble of each IDT handler make sure no common inline methods i.e. jmp, ret etc…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the IA32_SYSENTER_EIP MSR to make sure it points to ntoskrn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important driver’s for IRPs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FF04-BFCC-4121-92C9-88102C5CDD72}" type="slidenum">
              <a:t>31</a:t>
            </a:fld>
          </a:p>
        </p:txBody>
      </p:sp>
    </p:spTree>
  </p:cSld>
  <p:transition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ze the system for DeepDoor and UAY like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w level NDIS hooks allow complete stealth command and control channel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ttackers have implemented their own TCP/IP stack in the Windows kernel and bypassed the existing stack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vides invisibility from personal firewalls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lows the attacker to communicate on non existent ports or on ports bound to other processe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e Alexander Tereskin’s  talk on bypassing personal firewall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0C52-78E7-4EC1-83FC-13AD3F9E7869}" type="slidenum">
              <a:t>32</a:t>
            </a:fld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can not be zeroed out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that is uniq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gnature must not have false positiv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BDB4-810C-4E3D-849E-974E79F24EAE}" type="slidenum">
              <a:t>33</a:t>
            </a:fld>
          </a:p>
        </p:txBody>
      </p:sp>
    </p:spTree>
  </p:cSld>
  <p:transition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51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atu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cate pointers to “ServiceTable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ontained in all ETHREA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dden Proces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pawn a process with random nam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ends processes list visible to RAIDE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idden process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FF60F-41B7-48FB-A1B2-0E6D315AAE6A}" type="slidenum">
              <a:t>34</a:t>
            </a:fld>
          </a:p>
        </p:txBody>
      </p:sp>
    </p:spTree>
  </p:cSld>
  <p:transition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Dumping Proces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llows Security Analysts to reverse the executable or system file and see what it was doing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matter if the file is originally hidden on the H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 file is renamed and put in the working directory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umping lets analysts bypass any packer protection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Note: sophisticated attack agents do not require the HD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4AF2-5659-4D5E-9263-52114950DA9B}" type="slidenum">
              <a:t>35</a:t>
            </a:fld>
          </a:p>
        </p:txBody>
      </p:sp>
    </p:spTree>
  </p:cSld>
  <p:transition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ID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A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nalysi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ensic Analysis of hooking modules or hidden proce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o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k is found in kernel and the hooking module was identified, rename it and dump it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 hidden process is found, dump the process and all dlls in the user space to the current directory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is in BETA and not included in public rele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2D23-5AB7-4EDB-91CE-D553181B8600}" type="slidenum">
              <a:t>36</a:t>
            </a:fld>
          </a:p>
        </p:txBody>
      </p:sp>
    </p:spTree>
  </p:cSld>
  <p:transition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cation of Hoo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hook typ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 Types are as follow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SSDT Overwrite / SSD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AT Overwrite / IAT Inline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AT Overwrite / EAT Inline / EAT Forward Hook (user and kernel mode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RP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DT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Open Block/ Characteristics Hook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fter analyzing the system, identify the method being used to hide processes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lnSpc>
                <a:spcPct val="90000"/>
              </a:lnSpc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he current methods identified are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lnSpc>
                <a:spcPct val="90000"/>
              </a:lnSpc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spCidTable modification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21C0-39ED-4434-8DB2-DA9C0564FE7D}" type="slidenum">
              <a:t>37</a:t>
            </a:fld>
          </a:p>
        </p:txBody>
      </p:sp>
    </p:spTree>
  </p:cSld>
  <p:transition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40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KO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If the process is hidden in both, the rootkit uses the FUTo method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2BC-4029-401B-97BE-55A30D3F9DA6}" type="slidenum">
              <a:t>38</a:t>
            </a:fld>
          </a:p>
        </p:txBody>
      </p:sp>
    </p:spTree>
  </p:cSld>
  <p:transition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itelisting Firew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st firewalls act very similar if not exactly like rootkit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whitelists drivers using signatures such as checksums and other values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the hooking driver matches a signature the user is notified that tampering with the hook could result in system failure. 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AIDE does NOT rely on behavioral analysis to identify firewalls, since any rootkit mimicking these behaviors would fool the system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5DCE-4B9A-43F2-93EB-440421E798C1}" type="slidenum">
              <a:t>39</a:t>
            </a:fld>
          </a:p>
        </p:txBody>
      </p:sp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a Rootki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Hooks or Modifies existing execution paths of important operating system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key point of a rootkit is stealth our definition includes they must make an attempt to hide some action.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ootkits that do not hide themselves are not then using stealth methods and will be visible to administrative or forensic tools (i.e. DeviceTree from OSR) shows all non-hidden drivers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2D09-0E9F-4BEB-9792-94FA1EB099F1}" type="slidenum">
              <a:t>4</a:t>
            </a:fld>
          </a:p>
        </p:txBody>
      </p:sp>
    </p:spTree>
  </p:cSld>
  <p:transition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: Id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ent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urrently identified Firewall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aspersky Internet Security 6.0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itDefender 9 Professional Plu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utpost Firewall Pro v3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-Secure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ZoneAlarm 6.5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Personal Firewall 4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rend Micro PC-Cillin Internet Security 2006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io WinRoute 6.2.1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entifies 253 hooks installed by these product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7D2F-FB53-4B5B-B8F5-9744ACA14D11}" type="slidenum">
              <a:t>40</a:t>
            </a:fld>
          </a:p>
        </p:txBody>
      </p:sp>
    </p:spTree>
  </p:cSld>
  <p:transition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RAI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: E</a:t>
            </a:r>
            <a:r>
              <a:rPr b="0" lang="en-US" sz="3600" spc="-1" strike="noStrike">
                <a:solidFill>
                  <a:srgbClr val="969696"/>
                </a:solidFill>
                <a:latin typeface="Arial Black"/>
              </a:rPr>
              <a:t>li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otkit Eli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Hook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the original value of inlined hooked function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function pointers in the SSD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Restore original values of drivers whose EAT have been modifie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tore Process Option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Process hidden by DKOM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relinked to make the reappear in task manager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n be closed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a process is hidden using FUTo methods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It is not safe to close or attempt to relink the proces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F932-9786-43EF-84D5-FCF4DCFAA046}" type="slidenum">
              <a:t>41</a:t>
            </a:fld>
          </a:p>
        </p:txBody>
      </p:sp>
    </p:spTree>
  </p:cSld>
  <p:transition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ank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ter – Bugcheck, greg h, pedram, uninformed/research’e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mie – the HBG crew, eEye (liquid dietitians), Lil’ L, and uninform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1F94-5134-4FC5-8665-E4F685B3E4A0}" type="slidenum">
              <a:t>42</a:t>
            </a:fld>
          </a:p>
        </p:txBody>
      </p:sp>
    </p:spTree>
  </p:cSld>
  <p:transition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0" y="30481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39600" y="3809880"/>
            <a:ext cx="910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1470B-9A48-47A6-B35C-4E063664731F}" type="slidenum">
              <a:t>43</a:t>
            </a:fld>
          </a:p>
        </p:txBody>
      </p:sp>
    </p:spTree>
  </p:cSld>
  <p:transition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M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Demo VM will have the followin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s: (6 rootkits, no hands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nlin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SDT Overwrite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Driver EAT Hook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SR Hook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idden Process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UTo Hidden Proces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nd…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WinDbg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is all on VMWare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2F2F-9188-48D9-8BF0-25668A159D19}" type="slidenum">
              <a:t>44</a:t>
            </a:fld>
          </a:p>
        </p:txBody>
      </p:sp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rland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AT h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reateRemoteThread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lobally hooking Windows messages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95280" indent="-38088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Using the Registry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-3430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7146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264DA-8031-4DA1-A6C4-559362F11F9C}" type="slidenum">
              <a:t>5</a:t>
            </a:fld>
          </a:p>
        </p:txBody>
      </p:sp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AT Hoo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mode DLL’s and Kernel drivers both export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Export Address Table is a table of pointers to functions within a module that are callable by other modul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kernel mode will redirect every modified call to a hooked func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Modifying this table in user mode will redirect every call within that given process space but not system wide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User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GetProcAddres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LoadLibrary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reateToolhelp32Snapsh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Hooks in Kernel mo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Ndis*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294E-7D05-4FF7-A17A-A8EC3B11065A}" type="slidenum">
              <a:t>6</a:t>
            </a:fld>
          </a:p>
        </p:txBody>
      </p:sp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oking The Ker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operating system is global memory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oes not rely on process contex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Except when portions of a driver are pageable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905040" indent="-452520">
              <a:spcBef>
                <a:spcPts val="60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Kernel Object Hooking (KOH) is a great an example of pointer modification.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Modification of function pointers to: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Callback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Driver Unload routines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3" marL="1697400" indent="-339480">
              <a:spcBef>
                <a:spcPts val="451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Etc..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-376920">
              <a:spcBef>
                <a:spcPts val="499"/>
              </a:spcBef>
              <a:buClr>
                <a:srgbClr val="333333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KOH introduces a very tough issue of detection since its hard to ascertain in a lot of cases where a pointer is suppose to poin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Greg H -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rootkit.com/newsread.php?newsid=501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2" marL="128232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E7DB-92AB-4EA1-8D53-0EF739768B8F}" type="slidenum">
              <a:t>7</a:t>
            </a:fld>
          </a:p>
        </p:txBody>
      </p:sp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5119560" y="2438280"/>
            <a:ext cx="990720" cy="2438280"/>
            <a:chOff x="5119560" y="2438280"/>
            <a:chExt cx="990720" cy="2438280"/>
          </a:xfrm>
        </p:grpSpPr>
        <p:sp>
          <p:nvSpPr>
            <p:cNvPr id="117" name=""/>
            <p:cNvSpPr/>
            <p:nvPr/>
          </p:nvSpPr>
          <p:spPr>
            <a:xfrm>
              <a:off x="5119560" y="2438280"/>
              <a:ext cx="990720" cy="243828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119560" y="27432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119560" y="30477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119560" y="36576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119560" y="396216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119560" y="457200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26" name=""/>
          <p:cNvSpPr/>
          <p:nvPr/>
        </p:nvSpPr>
        <p:spPr>
          <a:xfrm>
            <a:off x="4573440" y="304812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0x25</a:t>
            </a:r>
            <a:endParaRPr b="0" lang="en-US" sz="16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19560" y="304812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110280" y="3352680"/>
            <a:ext cx="129528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10280" y="3048120"/>
            <a:ext cx="1295280" cy="10666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19560" y="3352680"/>
            <a:ext cx="533520" cy="14479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53080" y="4114800"/>
            <a:ext cx="1752480" cy="6858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29400" y="42814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CreateFi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8448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Service Descriptor Tab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562720" y="1600200"/>
            <a:ext cx="75960" cy="1600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04F6-A98A-4594-8138-DAF8748A0026}" type="slidenum">
              <a:t>8</a:t>
            </a:fld>
          </a:p>
        </p:txBody>
      </p:sp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ServiceDescriptorTable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"/>
          <p:cNvSpPr/>
          <p:nvPr/>
        </p:nvSpPr>
        <p:spPr>
          <a:xfrm>
            <a:off x="3809880" y="1295280"/>
            <a:ext cx="457200" cy="4496040"/>
          </a:xfrm>
          <a:prstGeom prst="rect">
            <a:avLst/>
          </a:prstGeom>
          <a:solidFill>
            <a:srgbClr val="c0c0c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0880" y="1676520"/>
            <a:ext cx="2895840" cy="289548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2514600"/>
            <a:ext cx="2362320" cy="146556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ZwCreateFile: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ax,0x25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v edx, 0x7ffe0300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ll [edx]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62120" y="1905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5638680"/>
            <a:ext cx="23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410080" y="56386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MOD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1066680"/>
            <a:ext cx="1295280" cy="76212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0080" y="1447920"/>
            <a:ext cx="4572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1219320"/>
            <a:ext cx="83808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477120" y="99072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iSystemServic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895480" y="1752480"/>
            <a:ext cx="25909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4497120" y="2438280"/>
            <a:ext cx="2908440" cy="3049200"/>
            <a:chOff x="4497120" y="2438280"/>
            <a:chExt cx="2908440" cy="3049200"/>
          </a:xfrm>
        </p:grpSpPr>
        <p:sp>
          <p:nvSpPr>
            <p:cNvPr id="148" name=""/>
            <p:cNvSpPr/>
            <p:nvPr/>
          </p:nvSpPr>
          <p:spPr>
            <a:xfrm>
              <a:off x="5119560" y="2438280"/>
              <a:ext cx="990720" cy="243864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119560" y="24382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19560" y="27432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119560" y="30481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119560" y="33526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119560" y="36576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19560" y="3962520"/>
              <a:ext cx="990720" cy="30456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119560" y="426708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19560" y="4572000"/>
              <a:ext cx="990720" cy="3049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97120" y="3048120"/>
              <a:ext cx="62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0x25</a:t>
              </a:r>
              <a:endParaRPr b="0" lang="en-US" sz="16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119560" y="3048120"/>
              <a:ext cx="53352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110280" y="3352680"/>
              <a:ext cx="129528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110280" y="3048120"/>
              <a:ext cx="1295280" cy="1066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119560" y="3352680"/>
              <a:ext cx="533520" cy="14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53080" y="4114800"/>
              <a:ext cx="1752480" cy="685800"/>
            </a:xfrm>
            <a:prstGeom prst="rect">
              <a:avLst/>
            </a:prstGeom>
            <a:solidFill>
              <a:srgbClr val="ffff6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729400" y="42814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NtCreateFi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0600" y="4844880"/>
              <a:ext cx="2057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ystem Service Descriptor Table</a:t>
              </a:r>
              <a:endParaRPr b="0" lang="en-US" sz="1800" spc="-1" strike="noStrike">
                <a:solidFill>
                  <a:srgbClr val="969696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6934320" y="1752480"/>
            <a:ext cx="1904760" cy="914400"/>
          </a:xfrm>
          <a:prstGeom prst="rect">
            <a:avLst/>
          </a:prstGeom>
          <a:solidFill>
            <a:srgbClr val="ffff6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391520" y="2057400"/>
            <a:ext cx="914400" cy="380880"/>
          </a:xfrm>
          <a:prstGeom prst="rect">
            <a:avLst/>
          </a:prstGeom>
          <a:solidFill>
            <a:srgbClr val="ff9900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791320" y="2209680"/>
            <a:ext cx="1828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34320" y="266688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18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5562360" y="1752480"/>
            <a:ext cx="75960" cy="1524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96969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6D000-3EE3-43D8-B361-B824A053D722}" type="slidenum">
              <a:t>9</a:t>
            </a:fld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5T06:59:27Z</dcterms:created>
  <dc:creator>Ohorovitz</dc:creator>
  <dc:description/>
  <dc:language>en-US</dc:language>
  <cp:lastModifiedBy> Peter</cp:lastModifiedBy>
  <dcterms:modified xsi:type="dcterms:W3CDTF">2006-08-03T00:06:04Z</dcterms:modified>
  <cp:revision>144</cp:revision>
  <dc:subject/>
  <dc:title>Reliable Windows Heap Exploits</dc:title>
</cp:coreProperties>
</file>