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  <p:sldId id="282" r:id="rId38"/>
    <p:sldId id="283" r:id="rId39"/>
    <p:sldId id="284" r:id="rId40"/>
    <p:sldId id="285" r:id="rId41"/>
    <p:sldId id="286" r:id="rId42"/>
    <p:sldId id="287" r:id="rId43"/>
    <p:sldId id="288" r:id="rId44"/>
    <p:sldId id="289" r:id="rId45"/>
    <p:sldId id="290" r:id="rId46"/>
    <p:sldId id="291" r:id="rId47"/>
    <p:sldId id="292" r:id="rId48"/>
    <p:sldId id="293" r:id="rId49"/>
    <p:sldId id="294" r:id="rId50"/>
    <p:sldId id="295" r:id="rId51"/>
    <p:sldId id="296" r:id="rId52"/>
    <p:sldId id="297" r:id="rId53"/>
    <p:sldId id="298" r:id="rId54"/>
    <p:sldId id="299" r:id="rId55"/>
    <p:sldId id="300" r:id="rId56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slide" Target="slides/slide27.xml"/><Relationship Id="rId39" Type="http://schemas.openxmlformats.org/officeDocument/2006/relationships/slide" Target="slides/slide28.xml"/><Relationship Id="rId40" Type="http://schemas.openxmlformats.org/officeDocument/2006/relationships/slide" Target="slides/slide29.xml"/><Relationship Id="rId41" Type="http://schemas.openxmlformats.org/officeDocument/2006/relationships/slide" Target="slides/slide30.xml"/><Relationship Id="rId42" Type="http://schemas.openxmlformats.org/officeDocument/2006/relationships/slide" Target="slides/slide31.xml"/><Relationship Id="rId43" Type="http://schemas.openxmlformats.org/officeDocument/2006/relationships/slide" Target="slides/slide32.xml"/><Relationship Id="rId44" Type="http://schemas.openxmlformats.org/officeDocument/2006/relationships/slide" Target="slides/slide33.xml"/><Relationship Id="rId45" Type="http://schemas.openxmlformats.org/officeDocument/2006/relationships/slide" Target="slides/slide34.xml"/><Relationship Id="rId46" Type="http://schemas.openxmlformats.org/officeDocument/2006/relationships/slide" Target="slides/slide35.xml"/><Relationship Id="rId47" Type="http://schemas.openxmlformats.org/officeDocument/2006/relationships/slide" Target="slides/slide36.xml"/><Relationship Id="rId48" Type="http://schemas.openxmlformats.org/officeDocument/2006/relationships/slide" Target="slides/slide37.xml"/><Relationship Id="rId49" Type="http://schemas.openxmlformats.org/officeDocument/2006/relationships/slide" Target="slides/slide38.xml"/><Relationship Id="rId50" Type="http://schemas.openxmlformats.org/officeDocument/2006/relationships/slide" Target="slides/slide39.xml"/><Relationship Id="rId51" Type="http://schemas.openxmlformats.org/officeDocument/2006/relationships/slide" Target="slides/slide40.xml"/><Relationship Id="rId52" Type="http://schemas.openxmlformats.org/officeDocument/2006/relationships/slide" Target="slides/slide41.xml"/><Relationship Id="rId53" Type="http://schemas.openxmlformats.org/officeDocument/2006/relationships/slide" Target="slides/slide42.xml"/><Relationship Id="rId54" Type="http://schemas.openxmlformats.org/officeDocument/2006/relationships/slide" Target="slides/slide43.xml"/><Relationship Id="rId55" Type="http://schemas.openxmlformats.org/officeDocument/2006/relationships/slide" Target="slides/slide44.xml"/><Relationship Id="rId56" Type="http://schemas.openxmlformats.org/officeDocument/2006/relationships/slide" Target="slides/slide45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485CE-1355-47B8-8E6A-C3AD4EFCA31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57F42-674A-43D8-AF5E-CD285EB30C5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F1817-8432-4F78-98D8-ACC72CD838F7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B831-9989-4234-82FF-CDA2A089A01A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632BC-AE77-4890-BAA6-6C52FFE0E2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9F2D6-E927-4730-BCFC-6B3120D10F9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92114-505F-41D0-8F19-98291EBAF2E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180D7-6FD9-4B0E-91A6-B3BF83A83C5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63443-BAF4-4511-9D15-5D786D3FF717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950EFB-F5DC-402D-B6BF-C69079E33742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76723-6B68-4BE1-B4C2-CA89C62EA0B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36394-337E-45C7-9E4A-622EEB153E56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1041480" y="279360"/>
            <a:ext cx="8128080" cy="471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07960" y="4578120"/>
            <a:ext cx="922032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5232600" y="1752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0796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5232600" y="4578120"/>
            <a:ext cx="449928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6252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742800" y="1752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0796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6252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742800" y="4578120"/>
            <a:ext cx="2968560" cy="258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2896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46080" cy="871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939920" y="7251840"/>
            <a:ext cx="266760" cy="279360"/>
          </a:xfrm>
          <a:prstGeom prst="rect">
            <a:avLst/>
          </a:prstGeom>
          <a:noFill/>
          <a:ln w="0">
            <a:noFill/>
          </a:ln>
        </p:spPr>
        <p:txBody>
          <a:bodyPr tIns="46800" bIns="46800" anchor="b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Gill San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456C7-9FFF-4E2F-B39E-26615FA13354}" type="slidenum">
              <a:rPr b="0" lang="en-US" sz="14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4" name=""/>
          <p:cNvSpPr/>
          <p:nvPr/>
        </p:nvSpPr>
        <p:spPr>
          <a:xfrm>
            <a:off x="8445600" y="7207200"/>
            <a:ext cx="1587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90360" y="2323800"/>
            <a:ext cx="8178840" cy="2971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990360" y="990360"/>
            <a:ext cx="8178840" cy="563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97000"/>
          </a:bodyPr>
          <a:p>
            <a:pPr marL="62496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1967760" indent="-423360">
              <a:spcBef>
                <a:spcPts val="3699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5753160"/>
            <a:ext cx="8178840" cy="133344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444600" y="3835080"/>
            <a:ext cx="4635360" cy="257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83000"/>
          </a:bodyPr>
          <a:p>
            <a:pPr marL="2088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1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2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3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4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5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  <a:p>
            <a:pPr lvl="6" marL="20880" algn="ctr">
              <a:buClr>
                <a:srgbClr val="ffffff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44600" y="1193760"/>
            <a:ext cx="4635360" cy="25783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b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5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057720" y="2158920"/>
            <a:ext cx="311148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67000"/>
          </a:bodyPr>
          <a:p>
            <a:pPr marL="43164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661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89100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12932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359360" indent="-29232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body"/>
          </p:nvPr>
        </p:nvSpPr>
        <p:spPr>
          <a:xfrm>
            <a:off x="990720" y="2158920"/>
            <a:ext cx="3936960" cy="4470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 fontScale="80000"/>
          </a:bodyPr>
          <a:p>
            <a:pPr marL="51552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1" marL="78984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2" marL="1064160" indent="-34884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3" marL="134856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4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5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  <a:p>
            <a:pPr lvl="6" marL="1622880" indent="-349200">
              <a:spcBef>
                <a:spcPts val="29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ill Sans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990360" y="203040"/>
            <a:ext cx="8178840" cy="1905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400" spc="-1" strike="noStrike">
                <a:solidFill>
                  <a:srgbClr val="ffffff"/>
                </a:solidFill>
                <a:latin typeface="Gill Sans"/>
              </a:rPr>
              <a:t>Click to edit the title text format</a:t>
            </a:r>
            <a:endParaRPr b="0" lang="en-US" sz="6400" spc="-1" strike="noStrike">
              <a:solidFill>
                <a:srgbClr val="ffffff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komoku.com/" TargetMode="Externa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uninformed.org/" TargetMode="External"/><Relationship Id="rId3" Type="http://schemas.openxmlformats.org/officeDocument/2006/relationships/hyperlink" Target="http://www.uninformed.org/" TargetMode="External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2877840"/>
            <a:ext cx="10159920" cy="84780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: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ootkit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alysis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d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ntification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min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Autofit/>
          </a:bodyPr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 Butler &amp; Peter Silberm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A80A3-8B28-4B2E-A592-11AF12BA61E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Kernel Spa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perating system is global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rely on process con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cept when portions of a driver are page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altering a single piece of code or a single pointer to code, the rootkit subverts every process o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5F7ED-3074-4C0F-84DD-3F9C9435AB3E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6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7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8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9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0" name=""/>
          <p:cNvSpPr/>
          <p:nvPr/>
        </p:nvSpPr>
        <p:spPr>
          <a:xfrm>
            <a:off x="6255720" y="971640"/>
            <a:ext cx="2128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iSystemServic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1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5767200" y="1185840"/>
            <a:ext cx="5079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3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4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5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6" name=""/>
          <p:cNvSpPr/>
          <p:nvPr/>
        </p:nvSpPr>
        <p:spPr>
          <a:xfrm>
            <a:off x="7470720" y="475776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7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8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59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0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1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2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3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4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5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6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C80E0-9F05-49A8-AE9B-25A1F004F8A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6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6180120" y="1269720"/>
            <a:ext cx="1185840" cy="16081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3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4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5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7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4" name=""/>
          <p:cNvSpPr/>
          <p:nvPr/>
        </p:nvSpPr>
        <p:spPr>
          <a:xfrm>
            <a:off x="6773760" y="3726000"/>
            <a:ext cx="2708280" cy="1015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5" name=""/>
          <p:cNvSpPr/>
          <p:nvPr/>
        </p:nvSpPr>
        <p:spPr>
          <a:xfrm>
            <a:off x="6773760" y="3809880"/>
            <a:ext cx="1184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6" name=""/>
          <p:cNvSpPr/>
          <p:nvPr/>
        </p:nvSpPr>
        <p:spPr>
          <a:xfrm>
            <a:off x="7620120" y="3809880"/>
            <a:ext cx="177804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t!NtCreateFile</a:t>
            </a:r>
            <a:endParaRPr b="0" lang="en-US" sz="18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7" name=""/>
          <p:cNvSpPr/>
          <p:nvPr/>
        </p:nvSpPr>
        <p:spPr>
          <a:xfrm>
            <a:off x="5504040" y="3132000"/>
            <a:ext cx="1269720" cy="16099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8" name=""/>
          <p:cNvSpPr/>
          <p:nvPr/>
        </p:nvSpPr>
        <p:spPr>
          <a:xfrm>
            <a:off x="6350040" y="2878200"/>
            <a:ext cx="3132000" cy="847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89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0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1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2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3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8295B-BE33-4674-84DE-E23C00778A4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5" name=""/>
          <p:cNvSpPr/>
          <p:nvPr/>
        </p:nvSpPr>
        <p:spPr>
          <a:xfrm>
            <a:off x="7027920" y="406404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6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5573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7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8" name=""/>
          <p:cNvSpPr/>
          <p:nvPr/>
        </p:nvSpPr>
        <p:spPr>
          <a:xfrm>
            <a:off x="6180120" y="2878200"/>
            <a:ext cx="1355760" cy="15238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99" name=""/>
          <p:cNvSpPr/>
          <p:nvPr/>
        </p:nvSpPr>
        <p:spPr>
          <a:xfrm>
            <a:off x="7027920" y="762120"/>
            <a:ext cx="2286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0" name=""/>
          <p:cNvSpPr/>
          <p:nvPr/>
        </p:nvSpPr>
        <p:spPr>
          <a:xfrm>
            <a:off x="7142040" y="1015920"/>
            <a:ext cx="816120" cy="4240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1" name=""/>
          <p:cNvSpPr/>
          <p:nvPr/>
        </p:nvSpPr>
        <p:spPr>
          <a:xfrm>
            <a:off x="7110000" y="169380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2" name=""/>
          <p:cNvSpPr/>
          <p:nvPr/>
        </p:nvSpPr>
        <p:spPr>
          <a:xfrm>
            <a:off x="7566120" y="4317840"/>
            <a:ext cx="815760" cy="42408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3" name=""/>
          <p:cNvSpPr/>
          <p:nvPr/>
        </p:nvSpPr>
        <p:spPr>
          <a:xfrm>
            <a:off x="7111440" y="36399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4" name=""/>
          <p:cNvSpPr/>
          <p:nvPr/>
        </p:nvSpPr>
        <p:spPr>
          <a:xfrm>
            <a:off x="507960" y="1947960"/>
            <a:ext cx="2624040" cy="3047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5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6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7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8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09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0" name=""/>
          <p:cNvSpPr/>
          <p:nvPr/>
        </p:nvSpPr>
        <p:spPr>
          <a:xfrm>
            <a:off x="762120" y="2624040"/>
            <a:ext cx="2116080" cy="1863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1" name=""/>
          <p:cNvSpPr/>
          <p:nvPr/>
        </p:nvSpPr>
        <p:spPr>
          <a:xfrm>
            <a:off x="760680" y="220176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2" name=""/>
          <p:cNvSpPr/>
          <p:nvPr/>
        </p:nvSpPr>
        <p:spPr>
          <a:xfrm>
            <a:off x="5504040" y="2624040"/>
            <a:ext cx="846000" cy="220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3" name=""/>
          <p:cNvSpPr/>
          <p:nvPr/>
        </p:nvSpPr>
        <p:spPr>
          <a:xfrm>
            <a:off x="5418000" y="5011560"/>
            <a:ext cx="152424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4" name=""/>
          <p:cNvSpPr/>
          <p:nvPr/>
        </p:nvSpPr>
        <p:spPr>
          <a:xfrm>
            <a:off x="5418000" y="1523880"/>
            <a:ext cx="507960" cy="13543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5" name=""/>
          <p:cNvSpPr/>
          <p:nvPr/>
        </p:nvSpPr>
        <p:spPr>
          <a:xfrm>
            <a:off x="762120" y="2878200"/>
            <a:ext cx="26240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6" name=""/>
          <p:cNvSpPr/>
          <p:nvPr/>
        </p:nvSpPr>
        <p:spPr>
          <a:xfrm>
            <a:off x="4910040" y="2878200"/>
            <a:ext cx="6778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7" name=""/>
          <p:cNvSpPr/>
          <p:nvPr/>
        </p:nvSpPr>
        <p:spPr>
          <a:xfrm>
            <a:off x="5504040" y="2878200"/>
            <a:ext cx="846000" cy="3398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18" name=""/>
          <p:cNvSpPr/>
          <p:nvPr/>
        </p:nvSpPr>
        <p:spPr>
          <a:xfrm flipV="1">
            <a:off x="2709720" y="1439640"/>
            <a:ext cx="2200320" cy="1353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930B52-96DF-470E-B9D3-40B01BDC1C4F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7281720" y="677880"/>
            <a:ext cx="2422800" cy="2370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0" name=""/>
          <p:cNvSpPr/>
          <p:nvPr/>
        </p:nvSpPr>
        <p:spPr>
          <a:xfrm>
            <a:off x="592200" y="762120"/>
            <a:ext cx="2625840" cy="3386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1" name=""/>
          <p:cNvSpPr/>
          <p:nvPr/>
        </p:nvSpPr>
        <p:spPr>
          <a:xfrm>
            <a:off x="762120" y="1440000"/>
            <a:ext cx="2286000" cy="14382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2" name=""/>
          <p:cNvSpPr/>
          <p:nvPr/>
        </p:nvSpPr>
        <p:spPr>
          <a:xfrm>
            <a:off x="846000" y="1573200"/>
            <a:ext cx="262584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ZwCreateFile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ax,0x25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mov edx, 0x7ffe0300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Call [edx]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3" name=""/>
          <p:cNvSpPr/>
          <p:nvPr/>
        </p:nvSpPr>
        <p:spPr>
          <a:xfrm>
            <a:off x="4910040" y="2963880"/>
            <a:ext cx="932040" cy="2454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4" name=""/>
          <p:cNvSpPr/>
          <p:nvPr/>
        </p:nvSpPr>
        <p:spPr>
          <a:xfrm>
            <a:off x="4910040" y="3301920"/>
            <a:ext cx="932040" cy="338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5" name=""/>
          <p:cNvSpPr/>
          <p:nvPr/>
        </p:nvSpPr>
        <p:spPr>
          <a:xfrm>
            <a:off x="4317840" y="3301920"/>
            <a:ext cx="93204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0x25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6" name=""/>
          <p:cNvSpPr/>
          <p:nvPr/>
        </p:nvSpPr>
        <p:spPr>
          <a:xfrm>
            <a:off x="7377120" y="846000"/>
            <a:ext cx="2200320" cy="1440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7" name=""/>
          <p:cNvSpPr/>
          <p:nvPr/>
        </p:nvSpPr>
        <p:spPr>
          <a:xfrm>
            <a:off x="7461360" y="932040"/>
            <a:ext cx="2031840" cy="7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ahoma"/>
              </a:rPr>
              <a:t>Nt!NtCreateFile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ourier New"/>
              </a:rPr>
              <a:t>jmp 0008:11223344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8" name=""/>
          <p:cNvSpPr/>
          <p:nvPr/>
        </p:nvSpPr>
        <p:spPr>
          <a:xfrm>
            <a:off x="6519960" y="3471840"/>
            <a:ext cx="3132000" cy="2116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29" name=""/>
          <p:cNvSpPr/>
          <p:nvPr/>
        </p:nvSpPr>
        <p:spPr>
          <a:xfrm>
            <a:off x="6688080" y="3639960"/>
            <a:ext cx="2625840" cy="1778040"/>
          </a:xfrm>
          <a:prstGeom prst="rect">
            <a:avLst/>
          </a:prstGeom>
          <a:solidFill>
            <a:srgbClr val="f7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0" name=""/>
          <p:cNvSpPr/>
          <p:nvPr/>
        </p:nvSpPr>
        <p:spPr>
          <a:xfrm>
            <a:off x="6942240" y="3726000"/>
            <a:ext cx="2539800" cy="15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[…]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di,edi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push    eb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mov     ebp,esp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jmp nt!NtCreateFile+08</a:t>
            </a:r>
            <a:endParaRPr b="0" lang="en-US" sz="16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1" name=""/>
          <p:cNvSpPr/>
          <p:nvPr/>
        </p:nvSpPr>
        <p:spPr>
          <a:xfrm>
            <a:off x="1099440" y="6519960"/>
            <a:ext cx="17445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R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2" name=""/>
          <p:cNvSpPr/>
          <p:nvPr/>
        </p:nvSpPr>
        <p:spPr>
          <a:xfrm>
            <a:off x="3471840" y="423720"/>
            <a:ext cx="338040" cy="685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3" name=""/>
          <p:cNvSpPr/>
          <p:nvPr/>
        </p:nvSpPr>
        <p:spPr>
          <a:xfrm>
            <a:off x="4317840" y="762120"/>
            <a:ext cx="1440000" cy="1523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4" name=""/>
          <p:cNvSpPr/>
          <p:nvPr/>
        </p:nvSpPr>
        <p:spPr>
          <a:xfrm>
            <a:off x="4232520" y="6519960"/>
            <a:ext cx="20556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ERNEL M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5" name=""/>
          <p:cNvSpPr/>
          <p:nvPr/>
        </p:nvSpPr>
        <p:spPr>
          <a:xfrm>
            <a:off x="4656240" y="1015920"/>
            <a:ext cx="110160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6" name=""/>
          <p:cNvSpPr/>
          <p:nvPr/>
        </p:nvSpPr>
        <p:spPr>
          <a:xfrm>
            <a:off x="725760" y="1015920"/>
            <a:ext cx="15616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ystem Ca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709720" y="1353960"/>
            <a:ext cx="2370240" cy="339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8" name=""/>
          <p:cNvSpPr/>
          <p:nvPr/>
        </p:nvSpPr>
        <p:spPr>
          <a:xfrm>
            <a:off x="4995720" y="1440000"/>
            <a:ext cx="168480" cy="19461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39" name=""/>
          <p:cNvSpPr/>
          <p:nvPr/>
        </p:nvSpPr>
        <p:spPr>
          <a:xfrm>
            <a:off x="7374240" y="2540160"/>
            <a:ext cx="21423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 or modu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0" name=""/>
          <p:cNvSpPr/>
          <p:nvPr/>
        </p:nvSpPr>
        <p:spPr>
          <a:xfrm>
            <a:off x="4826160" y="5334120"/>
            <a:ext cx="1523880" cy="132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ystem Service 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ptor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5757840" y="1777680"/>
            <a:ext cx="177804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2" name=""/>
          <p:cNvSpPr/>
          <p:nvPr/>
        </p:nvSpPr>
        <p:spPr>
          <a:xfrm>
            <a:off x="7280280" y="5672160"/>
            <a:ext cx="1631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7027560" y="2116080"/>
            <a:ext cx="50796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873920" y="1608120"/>
            <a:ext cx="424080" cy="2201760"/>
          </a:xfrm>
          <a:prstGeom prst="line">
            <a:avLst/>
          </a:prstGeom>
          <a:ln w="7632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81500-FF4F-4F66-903B-7325E6BE4D0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ystem calls used to send comman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DeviceIoControl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tWrite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quests are converted to I/O Request Packets (IRP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delivered to lower level dri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605B3-6293-4455-8322-B209C6EF4FC3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I/O Manager and IRP Hook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driver is represented by a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RPs are handled by a set of 28 function pointers within the DRIVER_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rootkit can hook one of these function pointers to gain contr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BFA0F-C5F4-4EF3-91E8-197790DE261C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nterrupt Descriptor Table Hook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ach CPU has an I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T contains pointers to Interrupt Service Routines (ISR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for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ke over the virtual memory manag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ngle step the processo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tercept keystrok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6CCCA-E2A6-40D1-8792-7477C9E782AD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2000"/>
          </a:bodyPr>
          <a:p>
            <a:pPr marL="59256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U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 hide a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the EPROCESS block of the process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behind it to point to the process after the process you are hi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2364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ange the process after it to point to the process before the one you are trying to h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Privilege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 Groups to Toke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ipulate the Token to Fool the Windows Event View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08280" indent="-4014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e Por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74D1A-CD2B-49E5-84D2-E4D985D82668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ing Processes - Windo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"/>
          <p:cNvGrpSpPr/>
          <p:nvPr/>
        </p:nvGrpSpPr>
        <p:grpSpPr>
          <a:xfrm>
            <a:off x="2413080" y="6781680"/>
            <a:ext cx="5249520" cy="339480"/>
            <a:chOff x="2413080" y="6781680"/>
            <a:chExt cx="5249520" cy="339480"/>
          </a:xfrm>
        </p:grpSpPr>
        <p:sp>
          <p:nvSpPr>
            <p:cNvPr id="555" name=""/>
            <p:cNvSpPr/>
            <p:nvPr/>
          </p:nvSpPr>
          <p:spPr>
            <a:xfrm>
              <a:off x="2481480" y="7090560"/>
              <a:ext cx="5181120" cy="3060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6200" bIns="-162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7584120" y="6781680"/>
              <a:ext cx="68400" cy="30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413080" y="6842880"/>
              <a:ext cx="137520" cy="278280"/>
            </a:xfrm>
            <a:prstGeom prst="upArrow">
              <a:avLst>
                <a:gd name="adj1" fmla="val 50000"/>
                <a:gd name="adj2" fmla="val 5058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graphicFrame>
        <p:nvGraphicFramePr>
          <p:cNvPr id="558" name=""/>
          <p:cNvGraphicFramePr/>
          <p:nvPr/>
        </p:nvGraphicFramePr>
        <p:xfrm>
          <a:off x="2184480" y="1676520"/>
          <a:ext cx="5962680" cy="5083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84480" y="1676520"/>
                    <a:ext cx="5962680" cy="508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60" name=""/>
          <p:cNvGrpSpPr/>
          <p:nvPr/>
        </p:nvGrpSpPr>
        <p:grpSpPr>
          <a:xfrm>
            <a:off x="2336760" y="4572000"/>
            <a:ext cx="5105520" cy="1404720"/>
            <a:chOff x="2336760" y="4572000"/>
            <a:chExt cx="5105520" cy="1404720"/>
          </a:xfrm>
        </p:grpSpPr>
        <p:sp>
          <p:nvSpPr>
            <p:cNvPr id="561" name=""/>
            <p:cNvSpPr/>
            <p:nvPr/>
          </p:nvSpPr>
          <p:spPr>
            <a:xfrm rot="5400000">
              <a:off x="6653880" y="5188320"/>
              <a:ext cx="1404720" cy="172080"/>
            </a:xfrm>
            <a:prstGeom prst="rightArrow">
              <a:avLst>
                <a:gd name="adj1" fmla="val 50000"/>
                <a:gd name="adj2" fmla="val 204079"/>
              </a:avLst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0" bIns="396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336760" y="4572000"/>
              <a:ext cx="5048280" cy="1371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336760" y="4572000"/>
              <a:ext cx="57240" cy="1378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ffffff"/>
                </a:solidFill>
                <a:latin typeface="Gill Sans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D079-A705-47CC-9D4C-30838DCB9323}" type="slidenum">
              <a:t>1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Who Are We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ter Silberm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phomore College Studen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dependent Security Research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FUT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tributor to openRCE.org (VISIT THE SI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Jamie Butl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TO of Komoku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komoku.co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ftware attes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otkit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uthor of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Rootkits: Subverting the Windows Kern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-author of Shadow Walker proof-of-concept memory subversion rootk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ioneer of Direct Kernel Object Manipulation (DKOM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07B8-FD55-42CD-9018-0697097CC2A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UTo – Hiding From the 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o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nformed Journal Vol. 3 (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uninformed.org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w version of FU hence the ‘T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des from IceSword and Blackligh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patched on 2/17/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oves itself from the 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7A3B7-949E-4DB6-8D01-308DCF8A31C1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spCidTable (PspPidTable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ob of PspCidTable is to keep track of all the processes and thread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spCidTable’s indexes are the PIDs of process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urns the address of the EPROCESS of a process at the location corresponding to the P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blem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ying on a single data structure is not a very robus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y altering one data structure much of the OS has no idea the hidden process exis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E9EAA0-E0C5-464B-BEC4-FA25B1F9C9E3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Th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7960" y="1143000"/>
            <a:ext cx="9220320" cy="60199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 Tab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ndles are an index into the Handle Table for a particular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jects represent processes, threads, tokens, events, ports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must do the translation from a handle to an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Object Manager consults the Security Reference Monitor to determine access to the obj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 process has its own handle table to keep track of the handles it ow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76BEB-C48E-41E6-BFA3-C67D67C8F68D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0" y="4233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Kernel Structures: Handle Tabl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761760" y="1371240"/>
            <a:ext cx="8636040" cy="5824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5000"/>
          </a:bodyPr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kd&gt; dt nt!_HANDLE_TAB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0 TableCode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4 QuotaProcess                  : Ptr32 _EPROCES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08 UniqueProcessId            : Ptr32 Voi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0c HandleTableLock           : [4]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+0x01c HandleTableList             : _LIST_ENT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4 HandleContentionEvent : _EX_PUSH_LOC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8 DebugInfo                      : Ptr32 _HANDLE_TRACE_DEBUG_INF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2c ExtraInfoPages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0 FirstFree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4 LastFree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8 NextHandleNeedingPool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3c HandleCount                   : 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Flags                               : Uint4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612000" indent="0">
              <a:lnSpc>
                <a:spcPct val="8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+0x040 StrictFIFO                      : Pos 0, 1 B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D1A01-0B32-4FB2-BAA2-F2FB778E117F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06440" y="2924280"/>
            <a:ext cx="30654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4" name=""/>
          <p:cNvSpPr/>
          <p:nvPr/>
        </p:nvSpPr>
        <p:spPr>
          <a:xfrm>
            <a:off x="290520" y="1523880"/>
            <a:ext cx="4451400" cy="2963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5" name=""/>
          <p:cNvSpPr/>
          <p:nvPr/>
        </p:nvSpPr>
        <p:spPr>
          <a:xfrm>
            <a:off x="338040" y="1778040"/>
            <a:ext cx="448812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6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7" name=""/>
          <p:cNvSpPr/>
          <p:nvPr/>
        </p:nvSpPr>
        <p:spPr>
          <a:xfrm>
            <a:off x="1608120" y="4038480"/>
            <a:ext cx="1015920" cy="15242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8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0" name=""/>
          <p:cNvSpPr/>
          <p:nvPr/>
        </p:nvSpPr>
        <p:spPr>
          <a:xfrm>
            <a:off x="5842080" y="1185840"/>
            <a:ext cx="330192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1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2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3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4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5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6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7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8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89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0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1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2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3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4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5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6" name=""/>
          <p:cNvSpPr/>
          <p:nvPr/>
        </p:nvSpPr>
        <p:spPr>
          <a:xfrm>
            <a:off x="6434280" y="3979800"/>
            <a:ext cx="0" cy="101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7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8" name=""/>
          <p:cNvSpPr/>
          <p:nvPr/>
        </p:nvSpPr>
        <p:spPr>
          <a:xfrm>
            <a:off x="6434280" y="5334120"/>
            <a:ext cx="507960" cy="118584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599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0" name=""/>
          <p:cNvSpPr/>
          <p:nvPr/>
        </p:nvSpPr>
        <p:spPr>
          <a:xfrm>
            <a:off x="6095880" y="651996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1" name=""/>
          <p:cNvSpPr/>
          <p:nvPr/>
        </p:nvSpPr>
        <p:spPr>
          <a:xfrm>
            <a:off x="5334120" y="3832200"/>
            <a:ext cx="4572000" cy="3398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2" name=""/>
          <p:cNvSpPr/>
          <p:nvPr/>
        </p:nvSpPr>
        <p:spPr>
          <a:xfrm>
            <a:off x="5587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3" name=""/>
          <p:cNvSpPr/>
          <p:nvPr/>
        </p:nvSpPr>
        <p:spPr>
          <a:xfrm>
            <a:off x="5925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4" name=""/>
          <p:cNvSpPr/>
          <p:nvPr/>
        </p:nvSpPr>
        <p:spPr>
          <a:xfrm>
            <a:off x="61801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5" name=""/>
          <p:cNvSpPr/>
          <p:nvPr/>
        </p:nvSpPr>
        <p:spPr>
          <a:xfrm>
            <a:off x="6519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6" name=""/>
          <p:cNvSpPr/>
          <p:nvPr/>
        </p:nvSpPr>
        <p:spPr>
          <a:xfrm>
            <a:off x="68580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7" name=""/>
          <p:cNvSpPr/>
          <p:nvPr/>
        </p:nvSpPr>
        <p:spPr>
          <a:xfrm>
            <a:off x="71960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8" name=""/>
          <p:cNvSpPr/>
          <p:nvPr/>
        </p:nvSpPr>
        <p:spPr>
          <a:xfrm>
            <a:off x="753588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09" name=""/>
          <p:cNvSpPr/>
          <p:nvPr/>
        </p:nvSpPr>
        <p:spPr>
          <a:xfrm>
            <a:off x="78739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0" name=""/>
          <p:cNvSpPr/>
          <p:nvPr/>
        </p:nvSpPr>
        <p:spPr>
          <a:xfrm>
            <a:off x="821196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1" name=""/>
          <p:cNvSpPr/>
          <p:nvPr/>
        </p:nvSpPr>
        <p:spPr>
          <a:xfrm>
            <a:off x="855180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2" name=""/>
          <p:cNvSpPr/>
          <p:nvPr/>
        </p:nvSpPr>
        <p:spPr>
          <a:xfrm>
            <a:off x="88898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3" name=""/>
          <p:cNvSpPr/>
          <p:nvPr/>
        </p:nvSpPr>
        <p:spPr>
          <a:xfrm>
            <a:off x="922824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4" name=""/>
          <p:cNvSpPr/>
          <p:nvPr/>
        </p:nvSpPr>
        <p:spPr>
          <a:xfrm>
            <a:off x="9567720" y="3832200"/>
            <a:ext cx="0" cy="339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5" name=""/>
          <p:cNvSpPr/>
          <p:nvPr/>
        </p:nvSpPr>
        <p:spPr>
          <a:xfrm>
            <a:off x="6180120" y="3832200"/>
            <a:ext cx="339840" cy="3398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6" name=""/>
          <p:cNvSpPr/>
          <p:nvPr/>
        </p:nvSpPr>
        <p:spPr>
          <a:xfrm>
            <a:off x="5334120" y="425592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7" name=""/>
          <p:cNvSpPr/>
          <p:nvPr/>
        </p:nvSpPr>
        <p:spPr>
          <a:xfrm>
            <a:off x="5418000" y="254016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PsGetCurrentProcessById() 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EFB4-5178-40A4-9FD1-A43942F3741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406440" y="2924280"/>
            <a:ext cx="3065400" cy="403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19" name=""/>
          <p:cNvSpPr/>
          <p:nvPr/>
        </p:nvSpPr>
        <p:spPr>
          <a:xfrm>
            <a:off x="290520" y="1854360"/>
            <a:ext cx="4451400" cy="26240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0" name=""/>
          <p:cNvSpPr/>
          <p:nvPr/>
        </p:nvSpPr>
        <p:spPr>
          <a:xfrm>
            <a:off x="4826160" y="1185840"/>
            <a:ext cx="338040" cy="5842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1" name=""/>
          <p:cNvSpPr/>
          <p:nvPr/>
        </p:nvSpPr>
        <p:spPr>
          <a:xfrm>
            <a:off x="1778040" y="4317840"/>
            <a:ext cx="846000" cy="127008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2" name=""/>
          <p:cNvSpPr/>
          <p:nvPr/>
        </p:nvSpPr>
        <p:spPr>
          <a:xfrm>
            <a:off x="592200" y="5587920"/>
            <a:ext cx="330192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ZwTerminateProcess( 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3" name=""/>
          <p:cNvSpPr/>
          <p:nvPr/>
        </p:nvSpPr>
        <p:spPr>
          <a:xfrm flipV="1">
            <a:off x="3639960" y="1947600"/>
            <a:ext cx="2202120" cy="3724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4" name=""/>
          <p:cNvSpPr/>
          <p:nvPr/>
        </p:nvSpPr>
        <p:spPr>
          <a:xfrm>
            <a:off x="5925960" y="1608120"/>
            <a:ext cx="3302280" cy="695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NtTerminateProcess: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VOID obj = TranslateHandleToObject(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5" name=""/>
          <p:cNvSpPr/>
          <p:nvPr/>
        </p:nvSpPr>
        <p:spPr>
          <a:xfrm>
            <a:off x="5418000" y="5079960"/>
            <a:ext cx="4572000" cy="338040"/>
          </a:xfrm>
          <a:prstGeom prst="rect">
            <a:avLst/>
          </a:prstGeom>
          <a:solidFill>
            <a:srgbClr val="0099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6" name=""/>
          <p:cNvSpPr/>
          <p:nvPr/>
        </p:nvSpPr>
        <p:spPr>
          <a:xfrm>
            <a:off x="5672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7" name=""/>
          <p:cNvSpPr/>
          <p:nvPr/>
        </p:nvSpPr>
        <p:spPr>
          <a:xfrm>
            <a:off x="6012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8" name=""/>
          <p:cNvSpPr/>
          <p:nvPr/>
        </p:nvSpPr>
        <p:spPr>
          <a:xfrm>
            <a:off x="62658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29" name=""/>
          <p:cNvSpPr/>
          <p:nvPr/>
        </p:nvSpPr>
        <p:spPr>
          <a:xfrm>
            <a:off x="66038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0" name=""/>
          <p:cNvSpPr/>
          <p:nvPr/>
        </p:nvSpPr>
        <p:spPr>
          <a:xfrm>
            <a:off x="69422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1" name=""/>
          <p:cNvSpPr/>
          <p:nvPr/>
        </p:nvSpPr>
        <p:spPr>
          <a:xfrm>
            <a:off x="72817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2" name=""/>
          <p:cNvSpPr/>
          <p:nvPr/>
        </p:nvSpPr>
        <p:spPr>
          <a:xfrm>
            <a:off x="76201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3" name=""/>
          <p:cNvSpPr/>
          <p:nvPr/>
        </p:nvSpPr>
        <p:spPr>
          <a:xfrm>
            <a:off x="79581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4" name=""/>
          <p:cNvSpPr/>
          <p:nvPr/>
        </p:nvSpPr>
        <p:spPr>
          <a:xfrm>
            <a:off x="829800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5" name=""/>
          <p:cNvSpPr/>
          <p:nvPr/>
        </p:nvSpPr>
        <p:spPr>
          <a:xfrm>
            <a:off x="863604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6" name=""/>
          <p:cNvSpPr/>
          <p:nvPr/>
        </p:nvSpPr>
        <p:spPr>
          <a:xfrm>
            <a:off x="897408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7" name=""/>
          <p:cNvSpPr/>
          <p:nvPr/>
        </p:nvSpPr>
        <p:spPr>
          <a:xfrm>
            <a:off x="931392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8" name=""/>
          <p:cNvSpPr/>
          <p:nvPr/>
        </p:nvSpPr>
        <p:spPr>
          <a:xfrm>
            <a:off x="9651960" y="507996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39" name=""/>
          <p:cNvSpPr/>
          <p:nvPr/>
        </p:nvSpPr>
        <p:spPr>
          <a:xfrm>
            <a:off x="2286000" y="4572000"/>
            <a:ext cx="211608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0x03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0" name=""/>
          <p:cNvSpPr/>
          <p:nvPr/>
        </p:nvSpPr>
        <p:spPr>
          <a:xfrm>
            <a:off x="6265800" y="5079960"/>
            <a:ext cx="3380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1" name=""/>
          <p:cNvSpPr/>
          <p:nvPr/>
        </p:nvSpPr>
        <p:spPr>
          <a:xfrm>
            <a:off x="5418000" y="55040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 1  2  3  ..  .. .. .. 80 81  82  83 84 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2" name=""/>
          <p:cNvSpPr/>
          <p:nvPr/>
        </p:nvSpPr>
        <p:spPr>
          <a:xfrm>
            <a:off x="7450200" y="6180120"/>
            <a:ext cx="2455920" cy="902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: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Type = OBJ_PROCESS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Object        = 0x8014231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3" name=""/>
          <p:cNvSpPr/>
          <p:nvPr/>
        </p:nvSpPr>
        <p:spPr>
          <a:xfrm>
            <a:off x="5334120" y="4002120"/>
            <a:ext cx="4572000" cy="338040"/>
          </a:xfrm>
          <a:prstGeom prst="rect">
            <a:avLst/>
          </a:prstGeom>
          <a:solidFill>
            <a:srgbClr val="0000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4" name=""/>
          <p:cNvSpPr/>
          <p:nvPr/>
        </p:nvSpPr>
        <p:spPr>
          <a:xfrm>
            <a:off x="5587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5" name=""/>
          <p:cNvSpPr/>
          <p:nvPr/>
        </p:nvSpPr>
        <p:spPr>
          <a:xfrm>
            <a:off x="5925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6" name=""/>
          <p:cNvSpPr/>
          <p:nvPr/>
        </p:nvSpPr>
        <p:spPr>
          <a:xfrm>
            <a:off x="61801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7" name=""/>
          <p:cNvSpPr/>
          <p:nvPr/>
        </p:nvSpPr>
        <p:spPr>
          <a:xfrm>
            <a:off x="6519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8" name=""/>
          <p:cNvSpPr/>
          <p:nvPr/>
        </p:nvSpPr>
        <p:spPr>
          <a:xfrm>
            <a:off x="68580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49" name=""/>
          <p:cNvSpPr/>
          <p:nvPr/>
        </p:nvSpPr>
        <p:spPr>
          <a:xfrm>
            <a:off x="71960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0" name=""/>
          <p:cNvSpPr/>
          <p:nvPr/>
        </p:nvSpPr>
        <p:spPr>
          <a:xfrm>
            <a:off x="753588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1" name=""/>
          <p:cNvSpPr/>
          <p:nvPr/>
        </p:nvSpPr>
        <p:spPr>
          <a:xfrm>
            <a:off x="78739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2" name=""/>
          <p:cNvSpPr/>
          <p:nvPr/>
        </p:nvSpPr>
        <p:spPr>
          <a:xfrm>
            <a:off x="821196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3" name=""/>
          <p:cNvSpPr/>
          <p:nvPr/>
        </p:nvSpPr>
        <p:spPr>
          <a:xfrm>
            <a:off x="855180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4" name=""/>
          <p:cNvSpPr/>
          <p:nvPr/>
        </p:nvSpPr>
        <p:spPr>
          <a:xfrm>
            <a:off x="88898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5" name=""/>
          <p:cNvSpPr/>
          <p:nvPr/>
        </p:nvSpPr>
        <p:spPr>
          <a:xfrm>
            <a:off x="922824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6" name=""/>
          <p:cNvSpPr/>
          <p:nvPr/>
        </p:nvSpPr>
        <p:spPr>
          <a:xfrm>
            <a:off x="9567720" y="4002120"/>
            <a:ext cx="0" cy="338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7" name=""/>
          <p:cNvSpPr/>
          <p:nvPr/>
        </p:nvSpPr>
        <p:spPr>
          <a:xfrm>
            <a:off x="6180120" y="4002120"/>
            <a:ext cx="33984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8" name=""/>
          <p:cNvSpPr/>
          <p:nvPr/>
        </p:nvSpPr>
        <p:spPr>
          <a:xfrm>
            <a:off x="5334120" y="4425840"/>
            <a:ext cx="4572000" cy="299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0 100 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59" name=""/>
          <p:cNvSpPr/>
          <p:nvPr/>
        </p:nvSpPr>
        <p:spPr>
          <a:xfrm>
            <a:off x="5418000" y="2681280"/>
            <a:ext cx="4572000" cy="11005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ranslateHandleToObject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Process = PspCidTable[ PsGetCurrentProcessById()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 Process == NULL) 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Process-&gt;ObjectTable[</a:t>
            </a: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hProcess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]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0" name=""/>
          <p:cNvSpPr/>
          <p:nvPr/>
        </p:nvSpPr>
        <p:spPr>
          <a:xfrm>
            <a:off x="254160" y="1860480"/>
            <a:ext cx="4487760" cy="25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test.exe ProcessId 152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{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ANDLE hProcess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hProcess = OpenProcess(PROCESS_ALL_ACCESS, 0, 132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if(hProcess == INVALID_HANDLE)</a:t>
            </a:r>
            <a:br>
              <a:rPr sz="1300"/>
            </a:b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return 0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Tahoma"/>
              </a:rPr>
              <a:t>TerminateProcess(hProcess);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661" name=""/>
          <p:cNvSpPr/>
          <p:nvPr/>
        </p:nvSpPr>
        <p:spPr>
          <a:xfrm>
            <a:off x="1193760" y="84240"/>
            <a:ext cx="84582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ctr">
            <a:noAutofit/>
          </a:bodyPr>
          <a:p>
            <a:pPr marL="255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andle Table Translation</a:t>
            </a:r>
            <a:endParaRPr b="0" lang="en-US" sz="4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59BDF-7615-4DAF-A7B3-58205FE568A8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tect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lacklight Be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eased in March 2005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ood hidden process and file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ceSword 1.1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bust tool offering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SDT Hook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File and Registry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ro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idden Ports and socket communication Dete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24960" indent="-42300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on flaw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oth applications rely upon the PspCidTable for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3094D0-7542-4B16-89F0-C992FD9CE145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169560"/>
            <a:ext cx="10159920" cy="7621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Detecting Hidden Processes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 PID Bruteforce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0" y="1185480"/>
            <a:ext cx="10159920" cy="6264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lacklight (Pre-Valentine’s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uteforces PIDs 0x0 - 0x4E1C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s OpenProcess on each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Success store valid P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lse Continue Loo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nished looping, take list of known PIDs and compare it to list generated by calling CreateToolhelp32Snapsh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y differences are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lled Cross-View method or Difference Based Metho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5A880-E67B-4898-B214-051624C1B6A0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0BA82-92FD-44E4-82D8-D2DFD56033BB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is RAID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makes RAIDE different than Blacklight, RKDetector, Rootkit Revealer, VICE, SVV, SDTRestore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CDA91-D903-4DA4-84CD-86AFDB2AFF1B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507960" y="1219320"/>
            <a:ext cx="9220320" cy="5943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8000"/>
          </a:bodyPr>
          <a:p>
            <a:pPr marL="63144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verview of Rootk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ort Address Table (IA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ServiceDescriptor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882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try overwri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/O Request Packet (IR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rupt Descriptor 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3560" indent="-42732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ding Process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5204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cting Hidden Proc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67680" indent="-427680">
              <a:lnSpc>
                <a:spcPct val="8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mo using RA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B3BDC-7A4D-48BB-8692-76A81E7D5E11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RAID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867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is a complete toolkit offering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ensic Capabilities (RKDetecto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Detection (Blackligh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Detection (SDTRestore, SVV, VIC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ok Restoration (SDTRestore, SVV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DT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mory Subversion Det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Featur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link processes to make it visi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ose 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 Method Detection – Example hook, DKOM,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85913-3EFD-4B38-BDF0-51E0E0A52479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Makes RAIDE Differen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combines most existing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etects Memory Subver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gives the user more information about hidden process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 IOCTL’s to communic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86ECA-D01D-4929-B091-EB30603F24C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Doesn’t RAIDE Do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detect hidden files, folders, or registry ke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Driver IRP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restore IDT hoo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does not prevent a rootkit from load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C0226-27DC-4CC6-B6E5-8047164EB646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AIDE Communication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uses Shared Memory segments to pass information kernel land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user lan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red Memory contains only encrypted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munication uses randomly named events for signa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s randomly generated process 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spawns a user process from a driver to do a Difference Based or Cross-View comparis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C9838-26E2-42A8-8C17-532C29281824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oal for Process Detec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can not be zeroed ou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that is uniqu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gnature must not have false positiv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D2151-FCD5-42F5-9A80-408F2E8E1D34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07960" y="12949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gnatu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te pointers to “ServiceTabl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Shad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rviceTable = nt!KeServiceDescriptor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ained in all ETHR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 a process with random na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pawned process generates process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nds processes list visible to RAID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IDE compares the two lists finding the dif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858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dden proc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0BD0E-D7AF-43FE-89AF-EB0661EDFFC0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idden Process Method Det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 detect hidden process methods, we need to know the two methods most commonly us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K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pCidT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the process is not visible by walking ActiveProcessList in the EPROCESS block then it was hidden using the DKOM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 for it to be hidden with the DKOM method it has to be visible in the PspCidTable, so RAIDE will walk that as w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hidden in both it uses the FUTo metho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94282-24F7-415C-B769-D9A7AD350DE8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254160"/>
            <a:ext cx="10159920" cy="76176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hadow Walker Detection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Illuminating the Shadow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0" y="1904760"/>
            <a:ext cx="10159920" cy="56307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hadow Walker relies on IDT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heck IDT 0x0e for a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W could modify itself to hide the IDT hook with an inline hoo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detection schemes out t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mapping Mem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y remapping, we mean remapping a given physical frame to a new virtual address (i.e. like the shared memory concept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0">
              <a:spcBef>
                <a:spcPts val="18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611F55-805F-46E3-9D53-28E6BA154600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an SSDT entry overwrite hook is detec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KeServiceDescriptorTable from file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address for hooked inde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calculate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-hook” SSDT index with original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1797B-E3A2-4537-8A4A-5C591139FD24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 Restor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it is an inline hook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en ntoskrnl on dis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tain original function addr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ad first few instruction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ore first few instru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restore as many instructions as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25C4-0040-4DCE-BDA0-7FC588BC363E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What is a rootki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finition might inclu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set of programs which patch and Trojan existing execution paths within the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oks or Modifies existing execution paths of important operating system fun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key point of a rootkit is stealth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story of Rootki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ace binaries like ls, ps, du, etc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jan login program to steal passw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7C4B0-9B28-41AF-AA41-258C35ADF44C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rensic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lvl="1" marL="98748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IDE offers the user forensic featur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nking Processes DKOM Method in Re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es’ address spaces for analy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0">
              <a:spcBef>
                <a:spcPts val="18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57FB3-A127-45F7-9FF0-E3C28375C4E3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Relinking Proces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is common hiding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KOM relies on unlinking the EPROCESS link poin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tore link pointers by passing the System EPROCESS and the hidden EPROCESS t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nsertTail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ws user to see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44400"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97425-74AD-4216-A5B3-2F5F2DD2EE2E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umping Process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Proc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lows Security Analysts to reverse the executable or system file and see what it was doing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7480" indent="-43668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es not matter if the file is originally hidden on the H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ed file is renamed and put in working direc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30200" indent="-43632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umping lets analyst bypass most packer and obfuscation protec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286E3-A305-4300-9E88-20F1585B16F8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Tha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/>
          </a:bodyPr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ter: bugcheck, xbud, thief, skape, pedram, greg h, nologin/research’ers, f-secure labs. And my school for cutting me a break on midterm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44400" indent="-436320"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amie: Lil’ L, lonerancher, Barns, Greg, and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gche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7A5802-FC05-49EA-97E3-91C062EAABE8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DEM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1857E-3080-4A87-A9B0-E256AF23CFE4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761760" y="2367000"/>
            <a:ext cx="8636040" cy="163368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subTitle"/>
          </p:nvPr>
        </p:nvSpPr>
        <p:spPr>
          <a:xfrm>
            <a:off x="1523880" y="4317480"/>
            <a:ext cx="7112160" cy="19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B4E63-FA74-4F2C-8B4E-5C9BE7484CD4}" type="slidenum">
              <a:t>45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41480" y="279360"/>
            <a:ext cx="8128080" cy="1015920"/>
          </a:xfrm>
          <a:prstGeom prst="rect">
            <a:avLst/>
          </a:prstGeom>
          <a:noFill/>
          <a:ln w="0">
            <a:noFill/>
          </a:ln>
        </p:spPr>
        <p:txBody>
          <a:bodyPr lIns="137160" rIns="164520" tIns="0" bIns="0" anchor="ctr">
            <a:noAutofit/>
          </a:bodyPr>
          <a:p>
            <a:pPr marL="255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Hooking in User Land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7960" y="1752120"/>
            <a:ext cx="9220320" cy="5410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t">
            <a:normAutofit fontScale="97000"/>
          </a:bodyPr>
          <a:p>
            <a:pPr marL="62496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AT hoo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oking code must run in or alter the address space of the target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try to patch a shared DLL such as KERNEL32.DLL or NTDLL.DLL, you will get a private copy of the DL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5760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ree documented ways to gain execution in the target address spa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eateRemoteThre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obally hooking Windows mess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290240" indent="-42300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ing the Regist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35120" indent="-423360">
              <a:lnSpc>
                <a:spcPct val="90000"/>
              </a:lnSpc>
              <a:spcBef>
                <a:spcPts val="1800"/>
              </a:spcBef>
              <a:buClr>
                <a:srgbClr val="ffffff"/>
              </a:buClr>
              <a:buSzPct val="171000"/>
              <a:buFont typeface="Lucida Grande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KEY_LOCAL_MACHINE\Software\Microsoft\Windows NT\CurrentVersion\Windows\AppInit_D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C3BB1B-4EAB-4BCA-980F-7B2FD30C5F9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3" name=""/>
          <p:cNvSpPr/>
          <p:nvPr/>
        </p:nvSpPr>
        <p:spPr>
          <a:xfrm>
            <a:off x="5905800" y="2327400"/>
            <a:ext cx="263772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mport Address Tabl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4317840" y="2540160"/>
            <a:ext cx="152424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39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0" name=""/>
          <p:cNvSpPr/>
          <p:nvPr/>
        </p:nvSpPr>
        <p:spPr>
          <a:xfrm>
            <a:off x="3894120" y="4572000"/>
            <a:ext cx="1947960" cy="16938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1" name=""/>
          <p:cNvSpPr/>
          <p:nvPr/>
        </p:nvSpPr>
        <p:spPr>
          <a:xfrm>
            <a:off x="4910040" y="4233960"/>
            <a:ext cx="4741920" cy="7617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80619-1F2C-4C63-B6A7-511D8F8CD6EF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2455560" y="101592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3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4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5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6" name=""/>
          <p:cNvSpPr/>
          <p:nvPr/>
        </p:nvSpPr>
        <p:spPr>
          <a:xfrm>
            <a:off x="7026120" y="6350040"/>
            <a:ext cx="1505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able Entry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7" name=""/>
          <p:cNvSpPr/>
          <p:nvPr/>
        </p:nvSpPr>
        <p:spPr>
          <a:xfrm>
            <a:off x="5842080" y="4995720"/>
            <a:ext cx="3809880" cy="1270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8" name=""/>
          <p:cNvSpPr/>
          <p:nvPr/>
        </p:nvSpPr>
        <p:spPr>
          <a:xfrm>
            <a:off x="5842080" y="4995720"/>
            <a:ext cx="1947960" cy="7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Name or Ordina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09" name=""/>
          <p:cNvSpPr/>
          <p:nvPr/>
        </p:nvSpPr>
        <p:spPr>
          <a:xfrm>
            <a:off x="7790040" y="4995720"/>
            <a:ext cx="194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1223344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0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1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6349680" y="1947960"/>
            <a:ext cx="1523880" cy="3216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3" name=""/>
          <p:cNvSpPr/>
          <p:nvPr/>
        </p:nvSpPr>
        <p:spPr>
          <a:xfrm flipH="1" flipV="1">
            <a:off x="6433920" y="1947960"/>
            <a:ext cx="2793960" cy="3132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4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5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6" name=""/>
          <p:cNvSpPr/>
          <p:nvPr/>
        </p:nvSpPr>
        <p:spPr>
          <a:xfrm flipH="1" flipV="1">
            <a:off x="6265440" y="1777680"/>
            <a:ext cx="422280" cy="5922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E3AC2B-7CE7-4438-88DD-BF50FF9B3A0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8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19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0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1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2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3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6" name=""/>
          <p:cNvSpPr/>
          <p:nvPr/>
        </p:nvSpPr>
        <p:spPr>
          <a:xfrm flipV="1">
            <a:off x="4741920" y="2031840"/>
            <a:ext cx="2116080" cy="245592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7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8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29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5A29A-0D2D-4A5C-95F8-49D44443135A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2455560" y="932040"/>
            <a:ext cx="141840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AT HOOK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1" name=""/>
          <p:cNvSpPr/>
          <p:nvPr/>
        </p:nvSpPr>
        <p:spPr>
          <a:xfrm>
            <a:off x="762120" y="1693800"/>
            <a:ext cx="4402080" cy="4994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2" name=""/>
          <p:cNvSpPr/>
          <p:nvPr/>
        </p:nvSpPr>
        <p:spPr>
          <a:xfrm>
            <a:off x="2878200" y="1947960"/>
            <a:ext cx="2031840" cy="2962080"/>
          </a:xfrm>
          <a:prstGeom prst="rect">
            <a:avLst/>
          </a:prstGeom>
          <a:solidFill>
            <a:srgbClr val="a1aa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3" name=""/>
          <p:cNvSpPr/>
          <p:nvPr/>
        </p:nvSpPr>
        <p:spPr>
          <a:xfrm>
            <a:off x="3894120" y="4233960"/>
            <a:ext cx="1015920" cy="33804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4" name=""/>
          <p:cNvSpPr/>
          <p:nvPr/>
        </p:nvSpPr>
        <p:spPr>
          <a:xfrm>
            <a:off x="5842080" y="1185840"/>
            <a:ext cx="2709720" cy="22003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5" name=""/>
          <p:cNvSpPr/>
          <p:nvPr/>
        </p:nvSpPr>
        <p:spPr>
          <a:xfrm>
            <a:off x="6518520" y="762120"/>
            <a:ext cx="140616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LL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6" name=""/>
          <p:cNvSpPr/>
          <p:nvPr/>
        </p:nvSpPr>
        <p:spPr>
          <a:xfrm>
            <a:off x="1185840" y="584208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7" name=""/>
          <p:cNvSpPr/>
          <p:nvPr/>
        </p:nvSpPr>
        <p:spPr>
          <a:xfrm>
            <a:off x="6012000" y="1608120"/>
            <a:ext cx="1778040" cy="507960"/>
          </a:xfrm>
          <a:prstGeom prst="rect">
            <a:avLst/>
          </a:prstGeom>
          <a:solidFill>
            <a:srgbClr val="fce9a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2793960" y="4401720"/>
            <a:ext cx="1440000" cy="169380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39" name=""/>
          <p:cNvSpPr/>
          <p:nvPr/>
        </p:nvSpPr>
        <p:spPr>
          <a:xfrm>
            <a:off x="5842080" y="4402080"/>
            <a:ext cx="2709720" cy="220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0" name=""/>
          <p:cNvSpPr/>
          <p:nvPr/>
        </p:nvSpPr>
        <p:spPr>
          <a:xfrm>
            <a:off x="6518880" y="3894120"/>
            <a:ext cx="1730880" cy="40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Rootkit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1" name=""/>
          <p:cNvSpPr/>
          <p:nvPr/>
        </p:nvSpPr>
        <p:spPr>
          <a:xfrm>
            <a:off x="6012000" y="4826160"/>
            <a:ext cx="1778040" cy="507960"/>
          </a:xfrm>
          <a:prstGeom prst="rect">
            <a:avLst/>
          </a:prstGeom>
          <a:solidFill>
            <a:srgbClr val="f5573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AD CODE</a:t>
            </a:r>
            <a:endParaRPr b="0" lang="en-US" sz="20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442" name=""/>
          <p:cNvSpPr/>
          <p:nvPr/>
        </p:nvSpPr>
        <p:spPr>
          <a:xfrm>
            <a:off x="4741920" y="4487760"/>
            <a:ext cx="1353960" cy="50796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Gill Sans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896DE-4792-4187-9465-04672DA2DC2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/>
  <dc:language>en-US</dc:language>
  <cp:lastModifiedBy> Peter</cp:lastModifiedBy>
  <dcterms:modified xsi:type="dcterms:W3CDTF">2006-03-03T09:11:01Z</dcterms:modified>
  <cp:revision>17</cp:revision>
  <dc:subject/>
  <dc:title>Copilot: A high assurance integrity monitor</dc:title>
</cp:coreProperties>
</file>