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91F2-B0A5-4ED5-A10C-B7F7142EE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A5E2-3CDE-4902-871E-D2D0A364A91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36F5-408F-4A9A-953C-171F7183237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60B4-D133-436D-89A5-797E4DE117D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2DC4-7BEE-4295-AEBD-C9F64F892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A71E-6592-4540-B250-0C6D565CF1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BBD3-8937-49A5-B683-AA6908556E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ACFB-49EC-4810-8B08-1F6EDB92F85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59EC-7753-435A-8B71-6D63906EBBD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630C-1E1E-4A0F-86DD-4EBC958D2FB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AA41-8908-4836-842C-9B8450C7475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0A29-5E64-4AB5-B808-F8B7BC72825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87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939920" y="7251840"/>
            <a:ext cx="266760" cy="27936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4188-8F35-4A49-A6BD-58AE73AA2544}" type="slidenum">
              <a:rPr b="0" lang="en-US" sz="14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/>
          <p:cNvSpPr/>
          <p:nvPr/>
        </p:nvSpPr>
        <p:spPr>
          <a:xfrm>
            <a:off x="8445600" y="7207200"/>
            <a:ext cx="1587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7000"/>
          </a:bodyPr>
          <a:p>
            <a:pPr marL="62496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444600" y="383508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3000"/>
          </a:bodyPr>
          <a:p>
            <a:pPr marL="20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44600" y="119376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7000"/>
          </a:bodyPr>
          <a:p>
            <a:pPr marL="43164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1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89100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129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moku.com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877840"/>
            <a:ext cx="10159920" cy="847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: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otki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lysi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tificatio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 Butler &amp; Peter Silber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E814-87C4-440D-BA41-25A260DADBE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Kernel Sp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erating system is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rely on process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 when portions of a driver are page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1CD8-8E28-4A39-BC7E-06FB58E11F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6255720" y="971640"/>
            <a:ext cx="2128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SystemServic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5767200" y="1185840"/>
            <a:ext cx="507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7470720" y="475776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4D19-6F60-4F9F-821F-27A6F64286A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180120" y="1269720"/>
            <a:ext cx="1185840" cy="1608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15DA-2972-4677-AE30-888CB579AA3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7027920" y="406404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6180120" y="2878200"/>
            <a:ext cx="1355760" cy="1523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E808-ED9B-4CE2-AE07-B89EFDF835D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7281720" y="677880"/>
            <a:ext cx="2422800" cy="237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>
            <a:off x="592200" y="762120"/>
            <a:ext cx="2625840" cy="338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1440000"/>
            <a:ext cx="2286000" cy="1438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846000" y="1573200"/>
            <a:ext cx="26258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4910040" y="2963880"/>
            <a:ext cx="932040" cy="245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4910040" y="3301920"/>
            <a:ext cx="932040" cy="338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4317840" y="3301920"/>
            <a:ext cx="932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7377120" y="846000"/>
            <a:ext cx="2200320" cy="1440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7461360" y="932040"/>
            <a:ext cx="20318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t!NtCreateFile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jmp 0008:11223344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6519960" y="3471840"/>
            <a:ext cx="3132000" cy="211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6688080" y="3639960"/>
            <a:ext cx="2625840" cy="17780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6942240" y="3726000"/>
            <a:ext cx="25398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di,edi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bp,es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mp nt!NtCreateFile+08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725760" y="101592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709720" y="1353960"/>
            <a:ext cx="2370240" cy="33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4995720" y="1440000"/>
            <a:ext cx="168480" cy="194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7374240" y="254016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4826160" y="5334120"/>
            <a:ext cx="1523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757840" y="1777680"/>
            <a:ext cx="177804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027560" y="2116080"/>
            <a:ext cx="50796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873920" y="1608120"/>
            <a:ext cx="424080" cy="220176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65500-6593-4633-8689-C921F6DF178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calls used to send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DeviceIoControl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Write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s are converted to I/O Request Packets (IR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delivered to lower leve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6FFF-CE48-4E06-AC9E-64FAEED27C2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driver is represented by a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handled by a set of 28 function pointers within the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ootkit can hook one of these function pointers to gai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77B2-0CF1-4C26-971F-C1533BF3202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rupt Descriptor Table H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PU has an I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T contains pointers to Interrupt Service Routines (IS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for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over the virtual memory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step the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cept keystro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AE94-1DAD-41EC-946C-D608ED78687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2000"/>
          </a:bodyPr>
          <a:p>
            <a:pPr marL="59256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ide a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the EPROCESS block of the process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Privilege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Group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ipulate the Token to Fool the Windows Event 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6924-783E-43A6-96DF-634119604A5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 - Wind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413080" y="6781680"/>
            <a:ext cx="5249520" cy="339480"/>
            <a:chOff x="2413080" y="6781680"/>
            <a:chExt cx="5249520" cy="339480"/>
          </a:xfrm>
        </p:grpSpPr>
        <p:sp>
          <p:nvSpPr>
            <p:cNvPr id="555" name=""/>
            <p:cNvSpPr/>
            <p:nvPr/>
          </p:nvSpPr>
          <p:spPr>
            <a:xfrm>
              <a:off x="2481480" y="7090560"/>
              <a:ext cx="5181120" cy="30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584120" y="6781680"/>
              <a:ext cx="68400" cy="30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13080" y="6842880"/>
              <a:ext cx="137520" cy="278280"/>
            </a:xfrm>
            <a:prstGeom prst="upArrow">
              <a:avLst>
                <a:gd name="adj1" fmla="val 50000"/>
                <a:gd name="adj2" fmla="val 5058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2184480" y="1676520"/>
          <a:ext cx="5962680" cy="508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4480" y="1676520"/>
                    <a:ext cx="596268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0" name=""/>
          <p:cNvGrpSpPr/>
          <p:nvPr/>
        </p:nvGrpSpPr>
        <p:grpSpPr>
          <a:xfrm>
            <a:off x="2336760" y="4572000"/>
            <a:ext cx="5105520" cy="1404720"/>
            <a:chOff x="2336760" y="4572000"/>
            <a:chExt cx="5105520" cy="1404720"/>
          </a:xfrm>
        </p:grpSpPr>
        <p:sp>
          <p:nvSpPr>
            <p:cNvPr id="561" name=""/>
            <p:cNvSpPr/>
            <p:nvPr/>
          </p:nvSpPr>
          <p:spPr>
            <a:xfrm rot="5400000">
              <a:off x="6653880" y="5188320"/>
              <a:ext cx="1404720" cy="172080"/>
            </a:xfrm>
            <a:prstGeom prst="rightArrow">
              <a:avLst>
                <a:gd name="adj1" fmla="val 50000"/>
                <a:gd name="adj2" fmla="val 20407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36760" y="4572000"/>
              <a:ext cx="5048280" cy="1371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36760" y="4572000"/>
              <a:ext cx="57240" cy="137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83B5-A682-449B-A6FF-BF336DC51834}" type="slidenum">
              <a:t>1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Are W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er Silber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phomore College Stud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pendent Security Research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F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or to openRCE.org (VISIT THE SI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ie But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O of Komok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omoku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atte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kit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otkits: Subverting the Windows 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author of Shadow Walker proof-of-concept memory subversion rootk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oneer of Direct Kernel Object Manipulation (DK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48FD-814F-4F99-8737-27B3A86AFFC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o – Hiding From the 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o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formed Journal Vol. 3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version of FU hence the ‘T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es from IceSword and Black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patched on 2/17/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s itself from the 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4F86-4686-4975-9A72-117DC8E11BE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spCidTable (PspPidTab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’s indexes are the PIDs of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FB1E-0F55-4BCB-9A00-16D3092CCCC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Th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7960" y="1143000"/>
            <a:ext cx="9220320" cy="601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s are an index into the Handle Table for a particula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represent processes, threads, tokens, events, port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must do the translation from a handle to a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process has its own handle table to keep track of the handles it ow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2FCF-5B57-4F9B-95BB-F87C936A712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4233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Handl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636040" cy="582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5000"/>
          </a:bodyPr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kd&gt; dt nt!_HANDLE_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0 TableCode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4 QuotaProcess                  : Ptr32 _E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8 UniqueProcessId            : Ptr32 Vo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c HandleTableLock           : [4]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1c HandleTableList             : _LIST_EN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4 HandleContentionEvent :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8 DebugInfo                      : Ptr32 _HANDLE_TRACE_DEBUG_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c ExtraInfoPages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0 FirstFree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4 LastFree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8 NextHandleNeedingPool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c HandleCount    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Flags     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StrictFIFO                      : Pos 0, 1 B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8443-1EDD-4D66-9164-908C8CC5C73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06440" y="2924280"/>
            <a:ext cx="3065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290520" y="1523880"/>
            <a:ext cx="4451400" cy="2963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338040" y="1778040"/>
            <a:ext cx="448812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1608120" y="4038480"/>
            <a:ext cx="1015920" cy="1524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>
            <a:off x="5842080" y="1185840"/>
            <a:ext cx="330192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6434280" y="3979800"/>
            <a:ext cx="0" cy="101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6434280" y="5334120"/>
            <a:ext cx="507960" cy="1185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651996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5334120" y="3832200"/>
            <a:ext cx="4572000" cy="3398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5587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>
            <a:off x="5925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61801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6519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71960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753588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7873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211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5518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88898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92282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95677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6180120" y="3832200"/>
            <a:ext cx="339840" cy="33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5334120" y="425592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5418000" y="254016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PsGetCurrentProcessById() 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34DC-DE01-4DA9-8280-FE9BE5AA203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406440" y="2924280"/>
            <a:ext cx="306540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290520" y="1854360"/>
            <a:ext cx="4451400" cy="2624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1778040" y="4317840"/>
            <a:ext cx="846000" cy="1270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5925960" y="1608120"/>
            <a:ext cx="330228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7450200" y="618012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4002120"/>
            <a:ext cx="4572000" cy="3380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5587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5925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61801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6519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"/>
          <p:cNvSpPr/>
          <p:nvPr/>
        </p:nvSpPr>
        <p:spPr>
          <a:xfrm>
            <a:off x="68580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>
            <a:off x="71960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"/>
          <p:cNvSpPr/>
          <p:nvPr/>
        </p:nvSpPr>
        <p:spPr>
          <a:xfrm>
            <a:off x="753588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>
            <a:off x="7873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>
            <a:off x="8211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"/>
          <p:cNvSpPr/>
          <p:nvPr/>
        </p:nvSpPr>
        <p:spPr>
          <a:xfrm>
            <a:off x="85518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"/>
          <p:cNvSpPr/>
          <p:nvPr/>
        </p:nvSpPr>
        <p:spPr>
          <a:xfrm>
            <a:off x="88898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"/>
          <p:cNvSpPr/>
          <p:nvPr/>
        </p:nvSpPr>
        <p:spPr>
          <a:xfrm>
            <a:off x="92282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"/>
          <p:cNvSpPr/>
          <p:nvPr/>
        </p:nvSpPr>
        <p:spPr>
          <a:xfrm>
            <a:off x="95677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>
            <a:off x="6180120" y="400212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"/>
          <p:cNvSpPr/>
          <p:nvPr/>
        </p:nvSpPr>
        <p:spPr>
          <a:xfrm>
            <a:off x="5334120" y="44258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5418000" y="268128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PsGetCurrentProcessById()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"/>
          <p:cNvSpPr/>
          <p:nvPr/>
        </p:nvSpPr>
        <p:spPr>
          <a:xfrm>
            <a:off x="254160" y="1860480"/>
            <a:ext cx="448776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1193760" y="84240"/>
            <a:ext cx="84582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marL="25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1DB2-600C-4C9E-9778-EB402698248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tect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acklight B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d in March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hidden process and file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eSword 1.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ust tool offe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DT Hook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File and Registry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orts and socket communication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fla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applications rely upon the PspCidTable for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53FE-6851-42E0-8FA3-89CDAE0C3BA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1695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cting Hidden Process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ID Brutefo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0" y="1185480"/>
            <a:ext cx="10159920" cy="626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(Pre-Valentine’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teforces PIDs 0x0 - 0x4E1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s OpenProcess on each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uccess store valid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e Continue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differences are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Cross-View method or Difference Based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C5F1-4F4E-491C-99E7-C9C9197FF0C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3B57-152C-4424-A5CB-2A634D90A39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RAI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akes RAIDE different than Blacklight, RKDetector, Rootkit Revealer, VICE, SVV, SDTResto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6C35-EF60-43B4-940E-882D9161BCC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7960" y="1219320"/>
            <a:ext cx="9220320" cy="59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 of Rootk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Address Table (I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ServiceDescriptor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y over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/O Request Packet (I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 Descriptor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ing Proc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ing Hidden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 using 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1B2B-B825-425D-B6B2-7B77AF24F78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86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is a complete toolkit offer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nsic Capabilities (RKDetec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Detection (Black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Detection (SDTRestore, SVV, V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Restoration (SDTRestore, SV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T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 Subversion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Featu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nk processes to make it 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 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Method Detection – Example hook, DKOM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F799-87B6-40E6-8AAA-80013DA3B2F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RAIDE Diffe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combines most exis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etects Memory Sub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gives the user more information about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 IOCTL’s to commun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70FE-1E3A-4C37-B667-5D81A30C7A4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detect hidden files, folders, or registry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Driver IRP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prevent a rootkit from lo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8D96-31B3-41C6-87C5-9A789BD9183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Communica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uses Shared Memory segments to pass information kernel lan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r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Memory contains only encryp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uses randomly named events for sign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randomly generated process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13F0-DBC5-4610-AAD8-093734839C7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can not be zeroed o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is u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must not have false posi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E6B3-ADE6-4E17-919F-CFDB313E0DF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e pointers to “ServiceTabl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ed in all E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 a process with random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 processes list visible to RA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53AD-20C3-49EC-8CAD-491E5A926F9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Method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K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hidden in both it uses the FUTo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47EE-58C9-4DF0-B855-F8DAC3731B8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10159920" cy="7617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dow Walker Detection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luminating the Shad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10159920" cy="563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dow Walker relies on IDT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IDT 0x0e for a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 could modify itself to hide the IDT hook with an inline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detection schemes o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pping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remapping, we mean remapping a given physical frame to a new virtual address (i.e. like the shared memory concep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9D27-48E8-4215-B47D-69D8F0A9457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 SSDT entry overwrite hook is de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KeServiceDescriptorTable from file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address for hooked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alculate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hook” SSDT index with original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F35D-1743-4E61-8172-5429FE4A606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an inline ho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function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first few instru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e first few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restore as many instructions 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AD25-F706-4428-994F-CCF024407ED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ootk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oks or Modifies existing execution paths of important operating system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ey point of a rootkit is steal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y of Rootk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 binaries like ls, ps, du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jan login program to steal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65F2-6385-45E7-B520-E7E38C53605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ens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lvl="1" marL="98748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offers the user forensic fe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nking Processes DKOM Method in Re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es’ address spaces for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F3EC-90F9-4AE2-A83C-86395D99F05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nk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is common hiding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relies on unlinking the EPROCESS link po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ore link pointers by passing the System EPROCESS and the hidden EPROCESS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sertTail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user to se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CD80-1B40-4387-B93F-EC39F290D2B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Security Analysts to reverse the executable or system file and see what it was do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matter if the file is originally hidden on the 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ed file is renamed and put in working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lets analyst bypass most packer and obfuscation prot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9008-51CE-47BB-B6AC-CA4FA24CFD2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: bugcheck, xbud, thief, skape, pedram, greg h, nologin/research’ers, f-secure labs. And my school for cutting me a break on midte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: Lil’ L, lonerancher, Barns, Greg, and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g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17A7-F606-47A0-89C3-6DDCBA06C1CB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C55A-F371-4063-86EA-94EA7E99B8F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B868-7ADA-4514-8DF2-569A3C99E78B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User 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T 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Remote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ly hooking Windows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Reg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035E-372D-4586-BE2F-8F1B944DB07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"/>
          <p:cNvSpPr/>
          <p:nvPr/>
        </p:nvSpPr>
        <p:spPr>
          <a:xfrm>
            <a:off x="5905800" y="2327400"/>
            <a:ext cx="26377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 Address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317840" y="254016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"/>
          <p:cNvSpPr/>
          <p:nvPr/>
        </p:nvSpPr>
        <p:spPr>
          <a:xfrm>
            <a:off x="3894120" y="4572000"/>
            <a:ext cx="1947960" cy="1693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"/>
          <p:cNvSpPr/>
          <p:nvPr/>
        </p:nvSpPr>
        <p:spPr>
          <a:xfrm>
            <a:off x="4910040" y="4233960"/>
            <a:ext cx="4741920" cy="761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481C-577A-444C-BA68-19268FF15B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455560" y="101592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6349680" y="1947960"/>
            <a:ext cx="1523880" cy="321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6433920" y="1947960"/>
            <a:ext cx="2793960" cy="31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6265440" y="1777680"/>
            <a:ext cx="422280" cy="592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D864-7350-4451-9223-3453C167C2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741920" y="2031840"/>
            <a:ext cx="2116080" cy="245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C959-F0AB-477F-83F4-C15777FD131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"/>
          <p:cNvSpPr/>
          <p:nvPr/>
        </p:nvSpPr>
        <p:spPr>
          <a:xfrm>
            <a:off x="4741920" y="4487760"/>
            <a:ext cx="1353960" cy="507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C38C-23A8-4E7C-A68F-867D86AE675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 Peter</cp:lastModifiedBy>
  <dcterms:modified xsi:type="dcterms:W3CDTF">2006-03-03T09:11:01Z</dcterms:modified>
  <cp:revision>17</cp:revision>
  <dc:subject/>
  <dc:title>Copilot: A high assurance integrity monitor</dc:title>
</cp:coreProperties>
</file>