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205D-8135-44CF-AA79-83E3AFC34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FA83-35EE-4A0A-BAD2-5A9F33118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6F75-9140-4C5F-89CC-EA12DD934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4FCE-1DD0-4981-805B-D7DB55BAE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1443-0C5B-4963-A33C-7D5417638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9EEA-36D1-40E6-B3C0-0F4EF2AA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02E8-FD58-493B-9D8F-72BB4A05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E62E-4517-4074-8F77-6CA69006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910D-CEF6-4200-A686-CA06A88C7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386D-8537-4D9A-B6D0-12001353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D684-E65F-4F70-829F-F3B1C2CF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FEC3-9D3C-4CBD-8199-1C7279AE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A4D9-518E-4920-8102-56E65CEB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0C30-8E4C-435A-BB6B-1BE288A9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3401-6B04-44A4-B17D-C1CA334C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DD1E-E908-43F2-B409-A271B254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FA14-4312-4B2A-B270-E148B085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BAFF-EE49-4049-AFB1-55DF5177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89E1-EC26-4C13-BB2D-8A9ED91B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806C-167A-476E-B9AA-EF9476E8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39F7-9954-4EFC-870B-718D334CB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E1B1-C25F-4636-BECA-3829AA40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6410-FFD0-4728-8D93-A1A964BD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F57E-CE5C-4D5E-AB1A-07066C24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9EC6-94CB-447A-BF6F-D4161DB1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7787-51F7-48CC-A6E6-2F0216BD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9755-C604-4E60-BB57-9ECCAB35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66FA-ECD8-4D77-B83C-0A5E55E8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74C1-BD41-4A45-B64B-0315939E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53352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33520" indent="-53352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533520" indent="-53352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533520" indent="-53352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533520" indent="-533520">
              <a:spcBef>
                <a:spcPts val="700"/>
              </a:spcBef>
              <a:buClr>
                <a:srgbClr val="96969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533520" indent="-533520">
              <a:spcBef>
                <a:spcPts val="700"/>
              </a:spcBef>
              <a:buClr>
                <a:srgbClr val="96969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019920" y="6629040"/>
            <a:ext cx="3124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ert YOUR company nam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ahoma"/>
              </a:rPr>
              <a:t>&lt;footer&gt;</a:t>
            </a:r>
            <a:r>
              <a:rPr b="0" lang="en-US" sz="1000" spc="-1" strike="noStrike">
                <a:solidFill>
                  <a:srgbClr val="333333"/>
                </a:solidFill>
                <a:latin typeface="Tahoma"/>
              </a:rPr>
              <a:t>Jamie Butler &amp; Peter Silberm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F37F-E67E-4FA4-8DDB-0F298BC7A88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vault/hoglund/basic_mdl_flags.zip" TargetMode="External"/><Relationship Id="rId3" Type="http://schemas.openxmlformats.org/officeDocument/2006/relationships/hyperlink" Target="http://www.rootkit.com/vault/hoglund/basic_mdl_flags.zip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vault/hoglund/migbot.zip" TargetMode="External"/><Relationship Id="rId3" Type="http://schemas.openxmlformats.org/officeDocument/2006/relationships/hyperlink" Target="http://www.rootkit.com/vault/hoglund/migbot.zip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vault/fuzen_op/TCPIRPHook.zip" TargetMode="External"/><Relationship Id="rId3" Type="http://schemas.openxmlformats.org/officeDocument/2006/relationships/hyperlink" Target="http://www.rootkit.com/vault/fuzen_op/TCPIRPHook.zip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ugcheck.org/code/bytehook.zip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vault/fuzen_op/SysEnterHook.zip" TargetMode="External"/><Relationship Id="rId3" Type="http://schemas.openxmlformats.org/officeDocument/2006/relationships/hyperlink" Target="http://www.rootkit.com/vault/fuzen_op/SysEnterHook.zip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www.rootkit.com/vault/hoglund/rk_044.zip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www.rootkit.com/vault/fuzen_op/FU_Rootkit.zip" TargetMode="External"/><Relationship Id="rId3" Type="http://schemas.openxmlformats.org/officeDocument/2006/relationships/hyperlink" Target="https://www.rootkit.com/vault/fuzen_op/FU_Rootkit.zip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uninformed.org/" TargetMode="External"/><Relationship Id="rId3" Type="http://schemas.openxmlformats.org/officeDocument/2006/relationships/hyperlink" Target="http://www.uninformed.org/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openrce.org/" TargetMode="External"/><Relationship Id="rId3" Type="http://schemas.openxmlformats.org/officeDocument/2006/relationships/hyperlink" Target="http://www.openrce.org/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newsread.php?newsid=501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IDE: R</a:t>
            </a:r>
            <a:r>
              <a:rPr b="0" lang="en-US" sz="3600" spc="-1" strike="noStrike">
                <a:solidFill>
                  <a:srgbClr val="c0c0c0"/>
                </a:solidFill>
                <a:latin typeface="Arial Black"/>
              </a:rPr>
              <a:t>ootkit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c0c0c0"/>
                </a:solidFill>
                <a:latin typeface="Arial Black"/>
              </a:rPr>
              <a:t>nalysis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</a:t>
            </a:r>
            <a:r>
              <a:rPr b="0" lang="en-US" sz="3600" spc="-1" strike="noStrike">
                <a:solidFill>
                  <a:srgbClr val="c0c0c0"/>
                </a:solidFill>
                <a:latin typeface="Arial Black"/>
              </a:rPr>
              <a:t>entification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c0c0c0"/>
                </a:solidFill>
                <a:latin typeface="Arial Black"/>
              </a:rPr>
              <a:t>limination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5960" y="3657600"/>
            <a:ext cx="910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EC49-5A8C-44FF-AD5E-DEC934428382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ServiceDescriptorTable Entry Overwr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1295280"/>
            <a:ext cx="457200" cy="449604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676520"/>
            <a:ext cx="2895840" cy="289548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2514600"/>
            <a:ext cx="2362320" cy="1465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wCreateFile: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ax,0x25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dx, 0x7ffe0300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[edx]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1905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10080" y="5638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1066680"/>
            <a:ext cx="129528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10080" y="1447920"/>
            <a:ext cx="4572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715000" y="1219320"/>
            <a:ext cx="8380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990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SystemServic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895480" y="1752480"/>
            <a:ext cx="25909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19560" y="2438280"/>
            <a:ext cx="990720" cy="243864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19560" y="24382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19560" y="27432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19560" y="3048120"/>
            <a:ext cx="9907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19560" y="33526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19560" y="36576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19560" y="3962520"/>
            <a:ext cx="990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19560" y="42670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19560" y="45720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97120" y="30481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25</a:t>
            </a:r>
            <a:endParaRPr b="0" lang="en-US" sz="16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4844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ervice Descriptor Tab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1752480"/>
            <a:ext cx="190476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391520" y="2057400"/>
            <a:ext cx="9144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34320" y="2666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34320" y="3657600"/>
            <a:ext cx="190476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3200400"/>
            <a:ext cx="1679400" cy="75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10280" y="4648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Rootkit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410080" y="1676520"/>
            <a:ext cx="15264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609588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hoglund/basic_mdl_flags.zip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36F8-FE94-4E57-A753-9E3CA8BAFA4F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ServiceDescriptorTable Inline Hook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1295280"/>
            <a:ext cx="457200" cy="449604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1676520"/>
            <a:ext cx="2895840" cy="289548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2514600"/>
            <a:ext cx="2362320" cy="1465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wCreateFile: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ax,0x25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dx, 0x7ffe0300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[edx]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1905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0080" y="5638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1066680"/>
            <a:ext cx="129528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10080" y="1447920"/>
            <a:ext cx="4572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895480" y="1752480"/>
            <a:ext cx="25909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19560" y="2438280"/>
            <a:ext cx="990720" cy="243864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19560" y="24382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19560" y="27432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19560" y="3048120"/>
            <a:ext cx="990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19560" y="33526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19560" y="36576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19560" y="3962520"/>
            <a:ext cx="990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19560" y="42670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19560" y="45720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7120" y="30481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25</a:t>
            </a:r>
            <a:endParaRPr b="0" lang="en-US" sz="16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00600" y="4844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ervice Descriptor Tab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29400" y="1447920"/>
            <a:ext cx="2209680" cy="121896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81680" y="11430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81680" y="3429000"/>
            <a:ext cx="2210040" cy="1447920"/>
          </a:xfrm>
          <a:prstGeom prst="rect">
            <a:avLst/>
          </a:prstGeom>
          <a:solidFill>
            <a:srgbClr val="ff0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4876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Rootkit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410080" y="1676520"/>
            <a:ext cx="15264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1680" y="1523880"/>
            <a:ext cx="1905120" cy="10576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t!NtCreateFile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mp 0008:11223344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715000" y="2209680"/>
            <a:ext cx="175248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086600" y="3432240"/>
            <a:ext cx="175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v     edi,edi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sh    ebp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v     ebp,esp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mp nt!NtCreateFile+08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7086240" y="2514600"/>
            <a:ext cx="15228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8153280" y="2361960"/>
            <a:ext cx="763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617220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hoglund/migbot.zip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5153-2D59-466F-9B98-A0240A642D7B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/O Manager IRP Hoo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ystem calls used to send comman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DeviceIoControlFi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WriteFi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quests are converted to I/O Request Packets (IRP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RPs are delivered to lower level driv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CPIRPHook 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fuzen_op/TCPIRPHook.zip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ny and every firewal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93F0-453F-4885-8AF3-980930761E8C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rupt Hoo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ach CPU has an ID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DT contains pointers to Interrupt Service Routines (ISR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Uses for IDT hook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ake over the virtual memory manage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ngle step the processo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ntercept keystrok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OverflowGuard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hadow Walke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OneByteHook 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bugcheck.org/code/bytehook.zip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E4CC-DD37-4073-B871-8F710D49F09E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Specific Reigsters (MSR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YSENETER is the replacement for int 2E which passed control from user mode to kernel mode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DLL loads EAX with the system call number (i.e. 0x25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DX is loaded with the current stack pointer ESP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DLL executes the SYSENTER instruc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YSENTER passes control to an address in the IA32_SYSENTER_EIP Model Specific Register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A32_SYSENTER_EIP is readable and writable but is a privileged instruction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ysEnterHook 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fuzen_op/SysEnterHook.zip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F9AB-CF5C-4D30-BE67-E522728EDFA4}" type="slidenum">
              <a:t>14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ss Hiding Circa 0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TRootkit By Greg Hogl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ooks the following functions to hide processes/files/registery entrie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CreateFi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CreateThread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EnumerateKey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EnumerateValueKey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QueryKey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QueryDirectoryFi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QuerySystemInformation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Quite dated but was the first public rootkit of its kind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Rootkit 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s://www.rootkit.com/vault/hoglund/rk_044.zip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1706-3E34-414E-BC77-A8894F7402F4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ss Hiding Circa 0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 by Jamie But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U introduces Direct Kernel Object Manipulation and takes process  hiding to the next level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KOM can be us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ide a proces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Locate the EPROCESS block of the process to hid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hange the process behind it to point to the process after the process you are hiding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hange the process after it to point to the process before the one you are trying to hid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dd Privileges to Token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dd Groups to Token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anipulate the Token to Fool the Windows Event Viewe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ide Port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U (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s://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fuzen_op/FU_Rootkit.zip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AA67-A67B-46DB-96F5-44548ADBCC05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iding Processes - Window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171880" y="6103800"/>
            <a:ext cx="4723920" cy="304920"/>
            <a:chOff x="2171880" y="6103800"/>
            <a:chExt cx="4723920" cy="304920"/>
          </a:xfrm>
        </p:grpSpPr>
        <p:sp>
          <p:nvSpPr>
            <p:cNvPr id="245" name=""/>
            <p:cNvSpPr/>
            <p:nvPr/>
          </p:nvSpPr>
          <p:spPr>
            <a:xfrm>
              <a:off x="2233440" y="6381000"/>
              <a:ext cx="4662360" cy="273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6824520" y="6103800"/>
              <a:ext cx="61560" cy="275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71880" y="6158880"/>
              <a:ext cx="123840" cy="249840"/>
            </a:xfrm>
            <a:prstGeom prst="upArrow">
              <a:avLst>
                <a:gd name="adj1" fmla="val 50000"/>
                <a:gd name="adj2" fmla="val 50436"/>
              </a:avLst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</p:grpSp>
      <p:graphicFrame>
        <p:nvGraphicFramePr>
          <p:cNvPr id="248" name=""/>
          <p:cNvGraphicFramePr/>
          <p:nvPr/>
        </p:nvGraphicFramePr>
        <p:xfrm>
          <a:off x="1965240" y="1508040"/>
          <a:ext cx="5367600" cy="457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65240" y="1508040"/>
                    <a:ext cx="5367600" cy="45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0" name=""/>
          <p:cNvGrpSpPr/>
          <p:nvPr/>
        </p:nvGrpSpPr>
        <p:grpSpPr>
          <a:xfrm>
            <a:off x="2103480" y="4114800"/>
            <a:ext cx="4594320" cy="1265040"/>
            <a:chOff x="2103480" y="4114800"/>
            <a:chExt cx="4594320" cy="1265040"/>
          </a:xfrm>
        </p:grpSpPr>
        <p:sp>
          <p:nvSpPr>
            <p:cNvPr id="251" name=""/>
            <p:cNvSpPr/>
            <p:nvPr/>
          </p:nvSpPr>
          <p:spPr>
            <a:xfrm rot="5400000">
              <a:off x="5987880" y="4669920"/>
              <a:ext cx="1265040" cy="154800"/>
            </a:xfrm>
            <a:prstGeom prst="rightArrow">
              <a:avLst>
                <a:gd name="adj1" fmla="val 50000"/>
                <a:gd name="adj2" fmla="val 204302"/>
              </a:avLst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03480" y="4114800"/>
              <a:ext cx="4542840" cy="12348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03480" y="4114800"/>
              <a:ext cx="51480" cy="124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F07C-481B-4D95-9B80-708BFA76025D}" type="slidenum">
              <a:t>17</a:t>
            </a:fld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ss Hiding 0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DE2 – by 902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move threads from KiWaitInListHead, KiWaitOutListHead and KiDispatcherReadyListHead and creates its own lists that it swaps in and out when it wants to give its own threads CPU time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o – by Peter Silberman &amp; CHA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Uninformed Journal Vol. 3 (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uninformed.org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ew version 2 of FU. Hence the ‘To’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ides from IceSword and Blackligh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Option –pngh bypasses as of (06/26/06)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Blacklight  (F-Secure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AntiRootkit (BitDefender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Helios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arkSpy does detection FUTo -ph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4454-7B7B-4A75-A083-6C21396A019D}" type="slidenum">
              <a:t>18</a:t>
            </a:fld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To – Modifying PspCidT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o removes itself from the PspCid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pCid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Job of PspCidTable is to keep track of all the processes and thread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spCidTable’s indexes are the PIDs of processe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turns the address of the EPROCESS of a process at the location corresponding to the PID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lying on a single data structure is not a very robust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y altering one data structure much of the OS has no idea the hidden process exist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1BB6-972C-4C40-AA26-EA480D0A305E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eter Silb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Undergraduate College Student (*yuck*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dependent Security Research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uthor of FUTo, (soon to be released PAIMEIdiff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ontributor to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openRCE.org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(VISIT THE SITE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Jamie But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urrently Un-Employed…. </a:t>
            </a:r>
            <a:r>
              <a:rPr b="0" lang="en-US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oftware attesta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ootkit detec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uthor of </a:t>
            </a: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Rootkits: Subverting the Windows Kern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o-author of Shadow Walker proof-of-concept memory subversion rootki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ioneer of Direct Kernel Object Manipulation (DKOM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04C9-4A27-4C82-933A-CB7507AFB2FA}" type="slidenum">
              <a:t>2</a:t>
            </a:fld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rnel Structures: The 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T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andles are an index into the Handle Table for a particular obj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bjects represent processes, threads, tokens, events, ports, etc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Object Manager must do the translation from a handle to an obj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Object Manager consults the Security Reference Monitor to determine access to the obj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very process has its own handle table to keep track of the handles it ow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A9CA-360E-448B-A744-1A12CF0FA152}" type="slidenum">
              <a:t>20</a:t>
            </a:fld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rnel Structures: The 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kd&gt; dt nt!_HANDLE_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00 TableCode                      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0x004 QuotaProcess                  : Ptr32 _E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0x008 UniqueProcessId            : Ptr32 V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0c HandleTableLock           : [4] _EX_PUSH_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0x01c HandleTableList             : _LIST_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24 HandleContentionEvent : _EX_PUSH_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28 DebugInfo                      : Ptr32 _HANDLE_TRACE_DEBUG_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2c ExtraInfoPages               : 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30 FirstFree                         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34 LastFree                          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38 NextHandleNeedingPool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3c HandleCount                   : 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40 Flags                               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40 StrictFIFO                      : Pos 0, 1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3039-F7AE-4BE0-8716-ADC6ECF748D1}" type="slidenum">
              <a:t>21</a:t>
            </a:fld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ndle Table Transl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"/>
          <p:cNvSpPr/>
          <p:nvPr/>
        </p:nvSpPr>
        <p:spPr>
          <a:xfrm>
            <a:off x="365040" y="2631960"/>
            <a:ext cx="275904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2080" y="1371600"/>
            <a:ext cx="4005000" cy="2666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1317600"/>
            <a:ext cx="403848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.exe ProcessId 152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ANDLE hProcess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Process = OpenProcess(PROCESS_ALL_ACCESS, 0, 132)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f(hProcess == INVALID_HANDL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 0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rminateProcess(hProcess)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1066680"/>
            <a:ext cx="304920" cy="5257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47920" y="3635280"/>
            <a:ext cx="914400" cy="1371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5029200"/>
            <a:ext cx="2971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ZwTerminateProcess(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)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276720" y="1752480"/>
            <a:ext cx="1981080" cy="3353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57800" y="1066680"/>
            <a:ext cx="2971800" cy="639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tTerminateProces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VOID obj = TranslateHandleToObject(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76920" y="4572000"/>
            <a:ext cx="4114800" cy="304920"/>
          </a:xfrm>
          <a:prstGeom prst="rect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055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100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86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2485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629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4674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7724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0773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818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868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57400" y="4114800"/>
            <a:ext cx="190512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Process = 0x03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358128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38680" y="45720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91320" y="4800600"/>
            <a:ext cx="45720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76920" y="4952880"/>
            <a:ext cx="4114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  1  2  3  ..  .. .. .. 80 81  82  83 84 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86400" y="5867280"/>
            <a:ext cx="2209680" cy="830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: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Type = OBJ_PROCESS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        = 0x8014231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00600" y="3449520"/>
            <a:ext cx="4114800" cy="304920"/>
          </a:xfrm>
          <a:prstGeom prst="rect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292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41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627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8672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722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7816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866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3915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960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0010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059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104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62720" y="344952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00600" y="3830760"/>
            <a:ext cx="4114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 100  152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76920" y="2286000"/>
            <a:ext cx="4114800" cy="1012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lateHandleToObje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 = PspCidTable[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sGetCurrentProcessById()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]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f( Process == NULL) return 0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urn Process-&gt;ObjectTable[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]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A895-B1D3-4CBE-9C2D-20224D9653D7}" type="slidenum">
              <a:t>22</a:t>
            </a:fld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ndle Table Transl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"/>
          <p:cNvSpPr/>
          <p:nvPr/>
        </p:nvSpPr>
        <p:spPr>
          <a:xfrm>
            <a:off x="365040" y="2631960"/>
            <a:ext cx="275904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2080" y="1371600"/>
            <a:ext cx="4005000" cy="2666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1317600"/>
            <a:ext cx="403848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.exe ProcessId 152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ANDLE hProcess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Process = OpenProcess(PROCESS_ALL_ACCESS, 0, 132)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f(hProcess == INVALID_HANDL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 0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rminateProcess(hProcess)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43400" y="1066680"/>
            <a:ext cx="304920" cy="5257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447920" y="3635280"/>
            <a:ext cx="914400" cy="1371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5029200"/>
            <a:ext cx="2971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ZwTerminateProcess(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)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3276720" y="1752480"/>
            <a:ext cx="1981080" cy="3353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257800" y="1066680"/>
            <a:ext cx="2971800" cy="639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tTerminateProces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VOID obj = TranslateHandleToObject(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76920" y="4572000"/>
            <a:ext cx="4114800" cy="304920"/>
          </a:xfrm>
          <a:prstGeom prst="rect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055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100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386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9436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2485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530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1629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4674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0773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3818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868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057400" y="4114800"/>
            <a:ext cx="190512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Process = 0x03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638680" y="4572000"/>
            <a:ext cx="30492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876920" y="4952880"/>
            <a:ext cx="4114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  1  2  3  ..  .. .. .. 80 81  82  83 84 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86400" y="5867280"/>
            <a:ext cx="2209680" cy="830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: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Type = OBJ_PROCESS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        = 0x8014231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00600" y="3449520"/>
            <a:ext cx="4114800" cy="304920"/>
          </a:xfrm>
          <a:prstGeom prst="rect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341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5627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672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1722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4771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816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0866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915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960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0010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3059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6104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562720" y="3449520"/>
            <a:ext cx="30456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00600" y="3830760"/>
            <a:ext cx="4114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 100  152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76920" y="2286000"/>
            <a:ext cx="4114800" cy="1012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lateHandleToObje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 = PspCidTable[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sGetCurrentProcessById()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]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f( Process == NULL) return 0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urn Process-&gt;ObjectTable[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]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8E7C-7AA6-41C7-813E-D34B3533D90B}" type="slidenum">
              <a:t>23</a:t>
            </a:fld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ng Hidden Processes PID Brutefor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uteforces PIDs 0x0 - 0x4E1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alls OpenThread on each PI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f Success store valid PI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lse Continue Loop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nished looping, take list of known PIDs and compare it to list generated by calling CreateToolhelp32Snapsh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ny differences are hidden process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alled Cross-View method or Difference Based Metho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C78E-1835-451D-A1F9-DC2126B90095}" type="slidenum">
              <a:t>24</a:t>
            </a:fld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A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9600" y="3809880"/>
            <a:ext cx="910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16D6-5622-4105-BB9E-177FA16B78B3}" type="slidenum">
              <a:t>25</a:t>
            </a:fld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IDE: Design Though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as designed to be an all stop shop for most common rootkit detection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uses secure communication methods to prevent people from interfering with our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is not developed with a GUI and does not require any runtime dll’s/frameworks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as designed for both advanced users who want the files for research and beginners who just want to be rootkit fre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D8DD-CA93-46C9-9B8C-FAFCD4A458EB}" type="slidenum">
              <a:t>26</a:t>
            </a:fld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can run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n XP – SP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n 2K SP4 (Hasn’t been tested on earlier versions, feel free to donate copies and RAIDE will support all win2k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n 2k3 pre sp1 – Issues were found for post SP1 and support is currently in development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5CA8-7DDB-4F5E-9C58-699AD25F8B84}" type="slidenum">
              <a:t>27</a:t>
            </a:fld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AIDE Communication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DE communication designed to thwart Crappy And Stupid Application Specific Attacks (CASA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DE uses Shared Memory segments to pass information kernel lan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r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hared Memory segment is randomly generate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ommunication uses randomly named events for signali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Uses randomly generated process nam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RAIDE spawns a user process from a driver to do a Difference Based or Cross-View comparis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e  spawned process looks like any other process spawned from userland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DA5B-825D-4E59-8375-2702324C24D4}" type="slidenum">
              <a:t>28</a:t>
            </a:fld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IDE: What it is no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placement for common sense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ill NOT keep you rootkit free nor will it pick up every rootkit. It’s a cat and mouse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ill not find hidden files/directories/registry entries. There are no plans currently to support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does not restore driver IRPs/IDT/MSR h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ill not at the moment identify hidden drivers, but there are plenty of applications out there to do 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ill not identify drivers hiding in plain sight as rootkits since they are not HIDDEN nor are they hiding ANY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0156-B9EF-4DE0-AED1-8BCF15F6039B}" type="slidenum">
              <a:t>29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going to be cove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Quick Review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Define Rootkits &amp; Hook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Userland Hook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Import Address Table (IAT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Export Address Table (EAT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Kernel Hook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KeServiceDescriptorTab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2133720" indent="-304920">
              <a:lnSpc>
                <a:spcPct val="90000"/>
              </a:lnSpc>
              <a:spcBef>
                <a:spcPts val="3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Inline Hook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4" marL="2133720" indent="-304920">
              <a:lnSpc>
                <a:spcPct val="90000"/>
              </a:lnSpc>
              <a:spcBef>
                <a:spcPts val="3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Entry (Index) Overwrit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I/O Request Packet (IRP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Interrupt Descriptor Tab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Model Specific Registers (MSR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Process Hiding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Old School DKOM (FU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School F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Previous Detection Technique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RAID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Dem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6595-E813-4907-A383-4CAC5442A397}" type="slidenum">
              <a:t>3</a:t>
            </a:fld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nalysis (User Hook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User m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r mode check all “important” loaded module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each module’s IAT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function pointers point to the correct DL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function pointers don’t point to .reloc sect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each module’s E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exported function pointers point within the DL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exported function pointers don’t point out of the .text sect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A390-D54B-4D7C-AE2E-DD17503C8F16}" type="slidenum">
              <a:t>30</a:t>
            </a:fld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nalysis (Kernel Hook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Kernel mode hoo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KiSystemServiceDescriptorTable (SSDT) function point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the function pointers point within NTOSKRN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each SSDT function’s have not been modifie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ntoskrnl off of disk and and compare the instruct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e IDT make sure the handlers point to ntoskrn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within the preamble of each IDT handler make sure no common inline methods i.e. jmp, ret etc…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e IA32_SYSENTER_EIP MSR to make sure it points to ntoskrn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important driver’s for IRPs hook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7EE0-53A0-4D79-814F-5F3A22248364}" type="slidenum">
              <a:t>31</a:t>
            </a:fld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nalysi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the system for DeepDoor and UAY like hoo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ow level NDIS hooks allow complete stealth command and control channels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ttackers have implemented their own TCP/IP stack in the Windows kernel and bypassed the existing stack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rovides invisibility from personal firewalls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lows the attacker to communicate on non existent ports or on ports bound to other processe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e Alexander Tereskin’s  talk on bypassing personal firewall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7DB9-E539-48FE-B47B-341D6A09A01E}" type="slidenum">
              <a:t>32</a:t>
            </a:fld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for Process Dete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gnature that can not be zeroed out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gnature that is uniq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gnature must not have false positiv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22FA-99F5-41E8-A632-8FAE055F5744}" type="slidenum">
              <a:t>33</a:t>
            </a:fld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ocate pointers to “ServiceTable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rviceTable = nt!KeServiceDescriptorTableShadow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rviceTable = nt!KeServiceDescriptorTab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ontained in all ETHREA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dden Proc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pawn a process with random nam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pawned process generates process lis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ends processes list visible to RAIDE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AIDE compares the two lists finding the differenc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hidden process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698F-7B3D-4741-9CE2-079E8FBB14F1}" type="slidenum">
              <a:t>34</a:t>
            </a:fld>
          </a:p>
        </p:txBody>
      </p:sp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Dumping Pro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mp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llows Security Analysts to reverse the executable or system file and see what it was doing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oes not matter if the file is originally hidden on the HD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ump file is renamed and put in the working directory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umping lets analysts bypass any packer protection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ote: sophisticated attack agents do not require the HD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BA66-EC0C-43C9-9CAC-A1F64930CBC9}" type="slidenum">
              <a:t>35</a:t>
            </a:fld>
          </a:p>
        </p:txBody>
      </p:sp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nalysi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nsic Analysis of hooking modules or hidden proce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ho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k is found in kernel and the hooking module was identified, rename it and dump it to the current directory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hidden process is found, dump the process and all dlls in the user space to the current directory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is in BETA and not included in public rel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C98D-208B-46C3-829C-D9CC1981578A}" type="slidenum">
              <a:t>36</a:t>
            </a:fld>
          </a:p>
        </p:txBody>
      </p:sp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nt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of Hoo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fter analyzing the system, identify the hook type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ook Types are as follows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SDT Overwrite / SSDT Inline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AT Overwrite / IAT Inline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EAT Overwrite / EAT Inline / EAT Forward Hook (user and kernel mode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RP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DT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MSR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Open Block/ Characteristics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fter analyzing the system, identify the method being used to hide processes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e current methods identified ar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DKOM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PspCidTable modificat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A862-6E03-4608-9905-738C925C0C6A}" type="slidenum">
              <a:t>37</a:t>
            </a:fld>
          </a:p>
        </p:txBody>
      </p:sp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RA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D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: Id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entifi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tect hidden process methods, we need to know the two methods most commonly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KO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spCidTabl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rocess is not visible by walking ActiveProcessList in the EPROCESS block then it was hidden using the DKOM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owever for it to be hidden with the DKOM method it has to be visible in the PspCidTable, so RAIDE will walk that as well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 the process is hidden in both, the rootkit uses the FUTo method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7B82-D9BF-4690-9E6E-FDCC742D236C}" type="slidenum">
              <a:t>38</a:t>
            </a:fld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nt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telisting Fire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st firewalls act very similar if not exactly like rootkits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AIDE whitelists drivers using signatures such as checksums and other values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f the hooking driver matches a signature the user is notified that tampering with the hook could result in system failure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AIDE does NOT rely on behavioral analysis to identify firewalls, since any rootkit mimicking these behaviors would fool the system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AEA4-381C-412F-AC6A-D3B7476E48F8}" type="slidenum">
              <a:t>39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a Rootki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might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set of programs which patch and Trojan existing execution paths within the syste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ooks or Modifies existing execution paths of important operating system function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key point of a rootkit is stealth our definition includes they must make an attempt to hide some action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ootkits that do not hide themselves are not then using stealth methods and will be visible to administrative or forensic tools (i.e. DeviceTree from OSR) shows all non-hidden driver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96D1-D1A9-4876-814F-3EC6F45DA694}" type="slidenum">
              <a:t>4</a:t>
            </a:fld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nt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identified Firewa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Kaspersky Internet Security 6.0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itDefender 9 Professional Plu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utpost Firewall Pro v3.5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-Secure Internet Security 2006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ZoneAlarm 6.5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Kerio Personal Firewall 4.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rend Micro PC-Cillin Internet Security 2006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Kerio WinRoute 6.2.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s 253 hooks installed by these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7D04-905F-4EF3-AE68-2C443D7BC03B}" type="slidenum">
              <a:t>40</a:t>
            </a:fld>
          </a:p>
        </p:txBody>
      </p:sp>
    </p:spTree>
  </p:cSld>
  <p:transition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AID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: E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li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kit El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store Hook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store the original value of inlined hooked function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store original function pointers in the SSD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store original values of drivers whose EAT have been modifie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store Process Option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rocess hidden by DKOM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an be relinked to make the reappear in task manager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an be closed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f a process is hidden using FUTo methods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t is not safe to close or attempt to relink the process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E995-7F4E-41E1-8D5A-CD5E452E53B4}" type="slidenum">
              <a:t>41</a:t>
            </a:fld>
          </a:p>
        </p:txBody>
      </p:sp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ank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er – Bugcheck, greg h, pedram, uninformed/research’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ie – the HBG crew, eEye (liquid dietitians), Lil’ L, and uninform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78DE-3395-4911-9D65-164D1712B6D5}" type="slidenum">
              <a:t>42</a:t>
            </a:fld>
          </a:p>
        </p:txBody>
      </p:sp>
    </p:spTree>
  </p:cSld>
  <p:transition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M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39600" y="3809880"/>
            <a:ext cx="910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97DF-FB13-479E-A93D-1D5E36EA8F9B}" type="slidenum">
              <a:t>43</a:t>
            </a:fld>
          </a:p>
        </p:txBody>
      </p:sp>
    </p:spTree>
  </p:cSld>
  <p:transition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M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Demo VM will have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ooks: (6 rootkits, no hand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nline Hook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SDT Overwrite Hook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river EAT Hook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SR Hook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idden Proces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U Hidden Proces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UTo Hidden Proces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nd…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inDb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ll on VMWare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30DE-BE9F-4D68-A3E7-6D8E7A799D41}" type="slidenum">
              <a:t>4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land Hoo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T h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ooking code must run in or alter the address space of the target proce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f you try to patch a shared DLL such as KERNEL32.DLL or NTDLL.DLL, you will get a private copy of the DLL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ree documented ways to gain execution in the target address space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reateRemoteThre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Globally hooking Windows messag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Using the Registry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HKEY_LOCAL_MACHINE\Software\Microsoft\Windows NT\CurrentVersion\Windows\AppInit_DLL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2FD8-9948-4E4B-88F8-628438B3C765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AT Hoo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mode DLL’s and Kernel drivers both export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port Address Table is a table of pointers to functions within a module that are callable by other modul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difying this table in kernel mode will redirect every modified call to a hooked func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difying this table in user mode will redirect every call within that given process space but not system wide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oks in User m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GetProcAddre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oadLibrar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reateToolhelp32Snapsh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oks in Kernel m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dis*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8FF5-4857-48CA-BDAC-793089A1FBC4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oking The Ker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operating system is global memory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oes not rely on process contex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xcept when portions of a driver are pageab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y altering a single piece of code or a single pointer to code, the rootkit subverts every process on the syste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Kernel Object Hooking (KOH) is a great an example of pointer modification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odification of function pointers to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697400" indent="-3394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allback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697400" indent="-3394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Driver Unload routines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697400" indent="-3394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Etc.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KOH introduces a very tough issue of detection since its hard to ascertain in a lot of cases where a pointer is suppose to poin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Greg H -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rootkit.com/newsread.php?newsid=501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25AE-A32D-4063-9AEE-B069C8E8CD2D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ServiceDescriptorTabl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1295280"/>
            <a:ext cx="457200" cy="449604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676520"/>
            <a:ext cx="2895840" cy="289548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2514600"/>
            <a:ext cx="2362320" cy="1465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wCreateFile: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ax,0x25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dx, 0x7ffe0300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[edx]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1905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5638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1066680"/>
            <a:ext cx="129528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1447920"/>
            <a:ext cx="4572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715000" y="1219320"/>
            <a:ext cx="8380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77120" y="990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SystemServic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895480" y="1752480"/>
            <a:ext cx="25909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119560" y="2438280"/>
            <a:ext cx="990720" cy="2438280"/>
            <a:chOff x="5119560" y="2438280"/>
            <a:chExt cx="990720" cy="2438280"/>
          </a:xfrm>
        </p:grpSpPr>
        <p:sp>
          <p:nvSpPr>
            <p:cNvPr id="117" name=""/>
            <p:cNvSpPr/>
            <p:nvPr/>
          </p:nvSpPr>
          <p:spPr>
            <a:xfrm>
              <a:off x="5119560" y="2438280"/>
              <a:ext cx="990720" cy="2438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19560" y="24382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19560" y="274320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19560" y="304776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19560" y="33526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19560" y="365760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19560" y="396216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19560" y="42670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19560" y="457200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4573440" y="30481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25</a:t>
            </a:r>
            <a:endParaRPr b="0" lang="en-US" sz="16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19560" y="3048120"/>
            <a:ext cx="5335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10280" y="3352680"/>
            <a:ext cx="129528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10280" y="3048120"/>
            <a:ext cx="129528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19560" y="3352680"/>
            <a:ext cx="53352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53080" y="4114800"/>
            <a:ext cx="1752480" cy="68580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29400" y="4281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CreateFi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4844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ervice Descriptor Tab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1600200"/>
            <a:ext cx="7596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4FB9-5EE9-4FFD-A795-283585C3D731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ServiceDescriptorTabl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1295280"/>
            <a:ext cx="457200" cy="449604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676520"/>
            <a:ext cx="2895840" cy="289548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2514600"/>
            <a:ext cx="2362320" cy="1465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wCreateFile: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ax,0x25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dx, 0x7ffe0300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[edx]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1905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10080" y="5638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1066680"/>
            <a:ext cx="129528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10080" y="1447920"/>
            <a:ext cx="4572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1219320"/>
            <a:ext cx="8380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77120" y="990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SystemServic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895480" y="1752480"/>
            <a:ext cx="25909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497120" y="2438280"/>
            <a:ext cx="2908440" cy="3049200"/>
            <a:chOff x="4497120" y="2438280"/>
            <a:chExt cx="2908440" cy="3049200"/>
          </a:xfrm>
        </p:grpSpPr>
        <p:sp>
          <p:nvSpPr>
            <p:cNvPr id="148" name=""/>
            <p:cNvSpPr/>
            <p:nvPr/>
          </p:nvSpPr>
          <p:spPr>
            <a:xfrm>
              <a:off x="5119560" y="2438280"/>
              <a:ext cx="990720" cy="2438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19560" y="24382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19560" y="274320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19560" y="304812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19560" y="33526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19560" y="365760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19560" y="396252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119560" y="42670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19560" y="457200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97120" y="3048120"/>
              <a:ext cx="62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x25</a:t>
              </a:r>
              <a:endParaRPr b="0" lang="en-US" sz="16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19560" y="3048120"/>
              <a:ext cx="53352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10280" y="3352680"/>
              <a:ext cx="12952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10280" y="3048120"/>
              <a:ext cx="129528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19560" y="3352680"/>
              <a:ext cx="53352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53080" y="4114800"/>
              <a:ext cx="1752480" cy="6858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29400" y="42814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tCreateFile</a:t>
              </a:r>
              <a:endParaRPr b="0" lang="en-US" sz="18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0600" y="484488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ystem Service Descriptor Table</a:t>
              </a:r>
              <a:endParaRPr b="0" lang="en-US" sz="18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934320" y="1752480"/>
            <a:ext cx="190476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2057400"/>
            <a:ext cx="9144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791320" y="2209680"/>
            <a:ext cx="18288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34320" y="2666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562360" y="1752480"/>
            <a:ext cx="75960" cy="152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D23A-0589-4612-B726-5798DAAD96F6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06:59:27Z</dcterms:created>
  <dc:creator>Ohorovitz</dc:creator>
  <dc:description/>
  <dc:language>en-US</dc:language>
  <cp:lastModifiedBy> Peter</cp:lastModifiedBy>
  <dcterms:modified xsi:type="dcterms:W3CDTF">2006-08-03T00:06:04Z</dcterms:modified>
  <cp:revision>144</cp:revision>
  <dc:subject/>
  <dc:title>Reliable Windows Heap Exploits</dc:title>
</cp:coreProperties>
</file>