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DD47-37F6-4BE0-9B45-6F6E427A4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4B60-F91D-4875-9208-B23B7A257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62FE-523C-42B4-9C12-1CBF651CD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C138-CF73-454F-977C-93891C910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68E6-8C80-4A79-8DDB-41F7E1D95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B66-AB3D-4C91-8269-A866DD38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579-9707-4907-A093-AC124DFD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3C1-02E8-4DF2-A84C-C59F36B8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74B-A5C9-4E70-B9F3-A41D3ED6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3C57-F4FD-4D46-BD0F-02DF3A03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3B7A-A1B3-4507-A8AF-B850E3C9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E827-FF35-4AD3-A462-E5D3A6C7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556A-5300-41F2-BBF5-364287E4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3B26-1873-4227-8978-4B0005D1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B06B-8D18-4646-AD12-E3D641E3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99D6-204C-41C8-AE9C-49914818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3D36-5405-44C4-9ABC-9D751F21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AE2F-C011-464D-9B82-544ECC80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1B17-BBCF-4B1E-A173-8EA0EC0E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FED3-EAE8-4908-BFF4-6C238FA1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DC48-4DC5-4E97-90F3-FA5DFE0E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477E-7D80-4AB5-9D15-9F51BA90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C3F7-8F3B-4C21-8524-1B88D3C7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639-7A57-4DCB-816F-93E667BC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D8BD-08B2-479F-8323-6FDD3AB0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58A-202B-4FCA-91F4-4DB902BF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0E6-4B8A-4600-8597-36B1E157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D150-47A6-4D85-B607-6BD19264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0F7E-7873-44D2-B96B-E0118519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533520" indent="-533520">
              <a:spcBef>
                <a:spcPts val="7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533520" indent="-533520">
              <a:spcBef>
                <a:spcPts val="7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019920" y="662904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t YOUR company nam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333333"/>
                </a:solidFill>
                <a:latin typeface="Tahoma"/>
              </a:rPr>
              <a:t>Jamie Butler &amp; Peter Silber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A576-8A8A-49B5-960F-93D36C221B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hoglund/basic_mdl_flags.zip" TargetMode="External"/><Relationship Id="rId3" Type="http://schemas.openxmlformats.org/officeDocument/2006/relationships/hyperlink" Target="http://www.rootkit.com/vault/hoglund/basic_mdl_flags.zip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hoglund/migbot.zip" TargetMode="External"/><Relationship Id="rId3" Type="http://schemas.openxmlformats.org/officeDocument/2006/relationships/hyperlink" Target="http://www.rootkit.com/vault/hoglund/migbot.zip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fuzen_op/TCPIRPHook.zip" TargetMode="External"/><Relationship Id="rId3" Type="http://schemas.openxmlformats.org/officeDocument/2006/relationships/hyperlink" Target="http://www.rootkit.com/vault/fuzen_op/TCPIRPHook.zip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ugcheck.org/code/bytehook.zip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fuzen_op/SysEnterHook.zip" TargetMode="External"/><Relationship Id="rId3" Type="http://schemas.openxmlformats.org/officeDocument/2006/relationships/hyperlink" Target="http://www.rootkit.com/vault/fuzen_op/SysEnterHook.zip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rootkit.com/vault/hoglund/rk_044.zip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rootkit.com/vault/fuzen_op/FU_Rootkit.zip" TargetMode="External"/><Relationship Id="rId3" Type="http://schemas.openxmlformats.org/officeDocument/2006/relationships/hyperlink" Target="https://www.rootkit.com/vault/fuzen_op/FU_Rootkit.zip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informed.org/" TargetMode="External"/><Relationship Id="rId3" Type="http://schemas.openxmlformats.org/officeDocument/2006/relationships/hyperlink" Target="http://www.uninformed.org/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penrce.org/" TargetMode="External"/><Relationship Id="rId3" Type="http://schemas.openxmlformats.org/officeDocument/2006/relationships/hyperlink" Target="http://www.openrce.org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newsread.php?newsid=50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R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ootkit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nalysis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entification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liminatio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960" y="3657600"/>
            <a:ext cx="910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055B-6516-4F6E-A1FB-39F1FD27B5D7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Entry Overwr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19560" y="2438280"/>
            <a:ext cx="99072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19560" y="24382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19560" y="27432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19560" y="3048120"/>
            <a:ext cx="9907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19560" y="33526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19560" y="36576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19560" y="39625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19560" y="42670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19560" y="45720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712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1752480"/>
            <a:ext cx="190476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91520" y="205740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3657600"/>
            <a:ext cx="190476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200400"/>
            <a:ext cx="1679400" cy="75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648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ootkit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410080" y="1676520"/>
            <a:ext cx="15264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095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hoglund/basic_mdl_flags.zip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B74-7A25-44C7-A862-59C1463D6522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Inline Hook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19560" y="2438280"/>
            <a:ext cx="99072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19560" y="24382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19560" y="27432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19560" y="30481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19560" y="33526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19560" y="36576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19560" y="39625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19560" y="42670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19560" y="45720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712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1447920"/>
            <a:ext cx="2209680" cy="121896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680" y="1143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429000"/>
            <a:ext cx="2210040" cy="1447920"/>
          </a:xfrm>
          <a:prstGeom prst="rect">
            <a:avLst/>
          </a:prstGeom>
          <a:solidFill>
            <a:srgbClr val="ff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ootkit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410080" y="1676520"/>
            <a:ext cx="15264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1523880"/>
            <a:ext cx="1905120" cy="10576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mp 0008:11223344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715000" y="2209680"/>
            <a:ext cx="17524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86600" y="3432240"/>
            <a:ext cx="175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    edi,edi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sh    ebp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    ebp,esp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mp nt!NtCreateFile+08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086240" y="2514600"/>
            <a:ext cx="1522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8153280" y="2361960"/>
            <a:ext cx="76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61722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hoglund/migbot.zip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406-FB96-48FD-940F-93239B503AD6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/O Manager IRP Hoo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tem calls used to send comman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eviceIoControlFi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WriteFi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ests are converted to I/O Request Packets (IRP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RPs are delivered to lower level driv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CPIRP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TCPIRP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ny and every firewal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714-625F-4160-9E97-2B80261FC76F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Hoo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CPU has an ID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DT contains pointers to Interrupt Service Routines (IS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ses for IDT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ake over the virtual memory manag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ngle step the processo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tercept keystrok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verflowGuar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adow Walk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neByte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bugcheck.org/code/byte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A97-CF40-417D-9B3F-459460AEB90C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Specific Reigsters (MS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ENETER is the replacement for int 2E which passed control from user mode to kernel mode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LL loads EAX with the system call number (i.e. 0x25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DX is loaded with the current stack pointer ES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LL executes the SYSENTER instruc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ENTER passes control to an address in the IA32_SYSENTER_EIP Model Specific Register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A32_SYSENTER_EIP is readable and writable but is a privileged instructio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ysEnter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SysEnter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66E-6043-4986-B2E4-A9E56B7AE847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Circa 0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Rootkit By Greg Hogl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s the following functions to hide processes/files/registery entri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CreateFi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CreateThrea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Enumerate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EnumerateValue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DirectoryFi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SystemInformatio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Quite dated but was the first public rootkit of its kind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Rootkit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www.rootkit.com/vault/hoglund/rk_044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8C6-F0A8-420E-90B7-CE8519C37FCC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Circa 0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 by Jamie Bu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 introduces Direct Kernel Object Manipulation and takes process  hiding to the next level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KOM can be us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ide a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Locate the EPROCESS block of the process to h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 the process behind it to point to the process after the process you are hiding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 the process after it to point to the process before the one you are trying to h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d Privileges to Toke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d Groups to Toke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anipulate the Token to Fool the Windows Event View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ide Port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U (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FU_Rootkit.zip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E77F-EB65-4BFD-B57B-FFED6B27D038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ding Processes - Window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171880" y="6103800"/>
            <a:ext cx="4723920" cy="304920"/>
            <a:chOff x="2171880" y="6103800"/>
            <a:chExt cx="4723920" cy="304920"/>
          </a:xfrm>
        </p:grpSpPr>
        <p:sp>
          <p:nvSpPr>
            <p:cNvPr id="245" name=""/>
            <p:cNvSpPr/>
            <p:nvPr/>
          </p:nvSpPr>
          <p:spPr>
            <a:xfrm>
              <a:off x="2233440" y="6381000"/>
              <a:ext cx="4662360" cy="273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824520" y="6103800"/>
              <a:ext cx="61560" cy="275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1880" y="6158880"/>
              <a:ext cx="123840" cy="249840"/>
            </a:xfrm>
            <a:prstGeom prst="upArrow">
              <a:avLst>
                <a:gd name="adj1" fmla="val 50000"/>
                <a:gd name="adj2" fmla="val 50436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graphicFrame>
        <p:nvGraphicFramePr>
          <p:cNvPr id="248" name=""/>
          <p:cNvGraphicFramePr/>
          <p:nvPr/>
        </p:nvGraphicFramePr>
        <p:xfrm>
          <a:off x="1965240" y="1508040"/>
          <a:ext cx="5367600" cy="457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5240" y="1508040"/>
                    <a:ext cx="53676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2103480" y="4114800"/>
            <a:ext cx="4594320" cy="1265040"/>
            <a:chOff x="2103480" y="4114800"/>
            <a:chExt cx="4594320" cy="1265040"/>
          </a:xfrm>
        </p:grpSpPr>
        <p:sp>
          <p:nvSpPr>
            <p:cNvPr id="251" name=""/>
            <p:cNvSpPr/>
            <p:nvPr/>
          </p:nvSpPr>
          <p:spPr>
            <a:xfrm rot="5400000">
              <a:off x="5987880" y="4669920"/>
              <a:ext cx="1265040" cy="154800"/>
            </a:xfrm>
            <a:prstGeom prst="rightArrow">
              <a:avLst>
                <a:gd name="adj1" fmla="val 50000"/>
                <a:gd name="adj2" fmla="val 204302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03480" y="4114800"/>
              <a:ext cx="4542840" cy="1234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03480" y="4114800"/>
              <a:ext cx="51480" cy="124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79F-1D64-40AD-8148-C01650AC2B7B}" type="slidenum">
              <a:t>17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0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DE2 – by 902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move threads from KiWaitInListHead, KiWaitOutListHead and KiDispatcherReadyListHead and creates its own lists that it swaps in and out when it wants to give its own threads CPU tim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o – by Peter Silberman &amp; CHA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informed Journal Vol. 3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uninformed.org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ew version 2 of FU. Hence the ‘To’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des from IceSword and Blackligh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ption –pngh bypasses as of (06/26/06)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Blacklight  (F-Secur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ntiRootkit (BitDefender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elio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arkSpy does detection FUTo -ph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A78-6EB4-4039-9F04-590E089A32F3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To – Modifying PspCidT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o removes itself from the PspCid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pCid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Job of PspCidTable is to keep track of all the processes and thread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spCidTable’s indexes are the PIDs of process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turns the address of the EPROCESS of a process at the location corresponding to the PI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lying on a single data structure is not a very robus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y altering one data structure much of the OS has no idea the hidden process exist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574-DF6A-4FC9-83FE-42C3A62090FA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ter Silb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dergraduate College Student (*yuck*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dependent Security Research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uthor of FUTo, (soon to be released PAIMEIdiff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tributor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openRCE.org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(VISIT THE SITE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Jamie Bu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urrently Un-Employed…. </a:t>
            </a:r>
            <a:r>
              <a:rPr b="0" lang="en-US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oftware attes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otkit detec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uthor of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Rootkits: Subverting the Windows Kern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-author of Shadow Walker proof-of-concept memory subversion rootki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ioneer of Direct Kernel Object Manipulation (DKOM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14B-74D3-44A4-B136-2E08BC4150F4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rnel Structures: The 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T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ndles are an index into the Handle Table for a particular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bjects represent processes, threads, tokens, events, ports, etc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bject Manager must do the translation from a handle to an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bject Manager consults the Security Reference Monitor to determine access to the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very process has its own handle table to keep track of the handles it ow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C02-CC00-49E8-A68C-B8C9CFC8E90A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rnel Structures: The 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kd&gt; dt nt!_HANDLE_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00 TableCode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04 QuotaProcess                  : Ptr32 _E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08 UniqueProcessId            : Ptr32 V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0c HandleTableLock           : [4] _EX_PUSH_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1c HandleTableList             : _LIST_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4 HandleContentionEvent : _EX_PUSH_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8 DebugInfo                      : Ptr32 _HANDLE_TRACE_DEBUG_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c ExtraInfoPages               : 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0 FirstFree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4 LastFree 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8 NextHandleNeedingPool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c HandleCount                   : 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40 Flags      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40 StrictFIFO                      : Pos 0, 1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701-BA82-4762-8E1F-D504005802E2}" type="slidenum">
              <a:t>21</a:t>
            </a:fld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e Table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365040" y="2631960"/>
            <a:ext cx="27590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2080" y="1371600"/>
            <a:ext cx="4005000" cy="2666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317600"/>
            <a:ext cx="40384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.exe ProcessId 152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NDLE hProcess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Process = OpenProcess(PROCESS_ALL_ACCESS, 0, 132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hProcess == INVALID_HANDL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teProcess(hProcess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066680"/>
            <a:ext cx="304920" cy="5257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3635280"/>
            <a:ext cx="9144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029200"/>
            <a:ext cx="2971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wTerminateProcess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276720" y="1752480"/>
            <a:ext cx="198108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1066680"/>
            <a:ext cx="2971800" cy="639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tTerminateProc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VOID obj = TranslateHandleToObject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4572000"/>
            <a:ext cx="4114800" cy="3049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7724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77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18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868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4114800"/>
            <a:ext cx="190512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Process = 0x03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3581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4800600"/>
            <a:ext cx="45720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495288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1  2  3  ..  .. .. .. 80 81  82  83 84 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5867280"/>
            <a:ext cx="2209680" cy="830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: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Type = OBJ_PROCESS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        = 0x8014231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3449520"/>
            <a:ext cx="4114800" cy="30492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816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915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960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104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344952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383076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100  152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6920" y="2286000"/>
            <a:ext cx="4114800" cy="101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lateHandleToObje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 = PspCidTable[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GetCurrentProcessById()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( Process == NULL) return 0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Process-&gt;ObjectTable[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5C5-C094-448B-AA2C-9E8F6BAF2F14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e Table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65040" y="2631960"/>
            <a:ext cx="27590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2080" y="1371600"/>
            <a:ext cx="4005000" cy="2666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1317600"/>
            <a:ext cx="40384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.exe ProcessId 152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NDLE hProcess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Process = OpenProcess(PROCESS_ALL_ACCESS, 0, 132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hProcess == INVALID_HANDL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teProcess(hProcess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1066680"/>
            <a:ext cx="304920" cy="5257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3635280"/>
            <a:ext cx="9144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5029200"/>
            <a:ext cx="2971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wTerminateProcess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76720" y="1752480"/>
            <a:ext cx="198108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57800" y="1066680"/>
            <a:ext cx="2971800" cy="639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tTerminateProc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VOID obj = TranslateHandleToObject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4572000"/>
            <a:ext cx="4114800" cy="3049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386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436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53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629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74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18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868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4114800"/>
            <a:ext cx="190512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Process = 0x03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76920" y="495288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1  2  3  ..  .. .. .. 80 81  82  83 84 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5867280"/>
            <a:ext cx="2209680" cy="830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: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Type = OBJ_PROCESS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        = 0x8014231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3449520"/>
            <a:ext cx="4114800" cy="30492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4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627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77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915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960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010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059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6104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3449520"/>
            <a:ext cx="30456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00600" y="383076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100  152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2286000"/>
            <a:ext cx="4114800" cy="101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lateHandleToObje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 = PspCidTable[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GetCurrentProcessById()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( Process == NULL) return 0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Process-&gt;ObjectTable[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9B9-036D-46D0-8917-DE84CBFE4BCE}" type="slidenum">
              <a:t>23</a:t>
            </a:fld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ng Hidden Processes PID Brutefor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uteforces PIDs 0x0 - 0x4E1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alls OpenThread on each PI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f Success store valid PI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lse Continue Loo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nished looping, take list of known PIDs and compare it to list generated by calling CreateToolhelp32Snapsh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y differences are hidden process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alled Cross-View method or Difference Based Metho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92D-7C4D-470B-8B68-31E06C9EEFF7}" type="slidenum">
              <a:t>24</a:t>
            </a:fld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60DF-0521-4DF2-9B64-B99E570A7C98}" type="slidenum">
              <a:t>25</a:t>
            </a:fld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Design Though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as designed to be an all stop shop for most common rootkit detectio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uses secure communication methods to prevent people from interfering with ou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is not developed with a GUI and does not require any runtime dll’s/frameworks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as designed for both advanced users who want the files for research and beginners who just want to be rootkit f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FE8-5DC7-4AA6-ADA8-93AEDAC305AF}" type="slidenum">
              <a:t>26</a:t>
            </a:fld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can run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XP – SP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2K SP4 (Hasn’t been tested on earlier versions, feel free to donate copies and RAIDE will support all win2k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2k3 pre sp1 – Issues were found for post SP1 and support is currently in developmen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3FE-3B9F-4D4A-96D2-F7EEB997637D}" type="slidenum">
              <a:t>27</a:t>
            </a:fld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IDE Communication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E communication designed to thwart Crappy And Stupid Application Specific Attacks (CAS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E uses Shared Memory segments to pass information kernel l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ared Memory segment is randomly generat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mmunication uses randomly named events for signal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es randomly generated process nam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AIDE spawns a user process from a driver to do a Difference Based or Cross-View comparis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 spawned process looks like any other process spawned from userland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621-6D78-4C8F-A436-04AE788A7842}" type="slidenum">
              <a:t>28</a:t>
            </a:fld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What it is no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lacement for common sense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keep you rootkit free nor will it pick up every rootkit. It’s a cat and mous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find hidden files/directories/registry entries. There are no plans currently to suppor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does not restore driver IRPs/IDT/MSR h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at the moment identify hidden drivers, but there are plenty of applications out there to do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identify drivers hiding in plain sight as rootkits since they are not HIDDEN nor are they hiding AN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6E8-50E6-41B3-9E25-C21C6B8B91F2}" type="slidenum">
              <a:t>29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going to be cove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Quick Review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efine Rootkits &amp; Hook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Userland Hook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mport Address Table (IA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xport Address Table (EA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Kernel Hook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KeServiceDescriptorTa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133720" indent="-30492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Inline Hook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4" marL="2133720" indent="-30492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Entry (Index) Overwrit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/O Request Packet (IRP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nterrupt Descriptor Ta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Model Specific Registers (MSR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rocess Hiding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Old School DKOM (FU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School F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Previous Detection Techniqu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A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0DC-57EA-4EA0-B5C1-31CB28C3F121}" type="slidenum">
              <a:t>3</a:t>
            </a:fld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 (User Hook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User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r mode check all “important” loaded modul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module’s IA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function pointers point to the correct DL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function pointers don’t point to .reloc se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module’s E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exported function pointers point within the DL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exported function pointers don’t point out of the .text sec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03C-D1C3-4255-9A1B-17A06DB78A00}" type="slidenum">
              <a:t>30</a:t>
            </a:fld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 (Kernel Hook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Kernel mode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KiSystemServiceDescriptorTable (SSDT) function point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he function pointers point within NTOSKRN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SSDT function’s have not been modifi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ntoskrnl off of disk and and compare the instru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IDT make sure the handlers point to ntoskrn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within the preamble of each IDT handler make sure no common inline methods i.e. jmp, ret etc…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IA32_SYSENTER_EIP MSR to make sure it points to ntoskrn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mportant driver’s for IRPs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B4EF-2FDA-4B1A-8271-3A240AD8249D}" type="slidenum">
              <a:t>31</a:t>
            </a:fld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he system for DeepDoor and UAY like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w level NDIS hooks allow complete stealth command and control channel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ttackers have implemented their own TCP/IP stack in the Windows kernel and bypassed the existing stack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vides invisibility from personal firewalls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lows the attacker to communicate on non existent ports or on ports bound to other process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e Alexander Tereskin’s  talk on bypassing personal firewall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C767-8BB3-4D17-90E5-74A52119E236}" type="slidenum">
              <a:t>32</a:t>
            </a:fld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for Process Det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that can not be zeroed ou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that is uniq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must not have false positiv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BA2C-E1FE-424F-84C3-807260DF52E1}" type="slidenum">
              <a:t>33</a:t>
            </a:fld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cate pointers to “ServiceTable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rviceTable = nt!KeServiceDescriptorTableShadow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rviceTable = nt!KeServiceDescriptorT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tained in all ETHR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den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pawn a process with random nam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pawned process generates process lis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nds processes list visible to RAIDE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IDE compares the two lists finding the differenc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idden process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190A-8B4D-4EA2-8FAA-CA7C0FE47C59}" type="slidenum">
              <a:t>34</a:t>
            </a:fld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Dumping Pro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p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llows Security Analysts to reverse the executable or system file and see what it was doing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es not matter if the file is originally hidden on the H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ump file is renamed and put in the working directory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umping lets analysts bypass any packer protection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ote: sophisticated attack agents do not require the H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5D8-1E4C-4998-8ECD-925923A94ABE}" type="slidenum">
              <a:t>35</a:t>
            </a:fld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nsic Analysis of hooking modules or hidden proc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o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k is found in kernel and the hooking module was identified, rename it and dump it to the current directo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idden process is found, dump the process and all dlls in the user space to the current directo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is in BETA and not included in public rel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3E0-5F57-4583-A16E-BE09B194C50E}" type="slidenum">
              <a:t>36</a:t>
            </a:fld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ter analyzing the system, identify the hook typ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ok Types are as follows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SDT Overwrite / SSDT Inline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AT Overwrite / IAT Inline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AT Overwrite / EAT Inline / EAT Forward Hook (user and kernel mod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RP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DT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MSR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pen Block/ Characteristics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ter analyzing the system, identify the method being used to hide processe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current methods identified ar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KO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spCidTable modifica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91EF-B871-4A6E-B243-CFAF12F5910C}" type="slidenum">
              <a:t>37</a:t>
            </a:fld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ct hidden process methods, we need to know the two methods most commonly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KO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spCidTabl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ocess is not visible by walking ActiveProcessList in the EPROCESS block then it was hidden using the DKOM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wever for it to be hidden with the DKOM method it has to be visible in the PspCidTable, so RAIDE will walk that as well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 the process is hidden in both, the rootkit uses the FUTo meth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54C-5EAC-4F5F-B4BC-907D51FD7E21}" type="slidenum">
              <a:t>38</a:t>
            </a:fld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listing Fire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firewalls act very similar if not exactly like rootkit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AIDE whitelists drivers using signatures such as checksums and other value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the hooking driver matches a signature the user is notified that tampering with the hook could result in system failure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AIDE does NOT rely on behavioral analysis to identify firewalls, since any rootkit mimicking these behaviors would fool the system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012-3EB9-406C-A608-0D79B699C578}" type="slidenum">
              <a:t>39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a Rootki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might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set of programs which patch and Trojan existing execution paths within the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oks or Modifies existing execution paths of important operating system func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key point of a rootkit is stealth our definition includes they must make an attempt to hide some action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otkits that do not hide themselves are not then using stealth methods and will be visible to administrative or forensic tools (i.e. DeviceTree from OSR) shows all non-hidden driver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345-EDC7-4EC8-9D82-E2577CD8C1C2}" type="slidenum">
              <a:t>4</a:t>
            </a:fld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identified Firewa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aspersky Internet Security 6.0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itDefender 9 Professional Plu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utpost Firewall Pro v3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-Secure Internet Security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ZoneAlarm 6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io Personal Firewall 4.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rend Micro PC-Cillin Internet Security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io WinRoute 6.2.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253 hooks installed by these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79F-58D8-4352-B4E4-E56CE91A09FE}" type="slidenum">
              <a:t>40</a:t>
            </a:fld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ID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: E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li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kit 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tore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the original value of inlined hooked func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original function pointers in the SSD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original values of drivers whose EAT have been modifi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tore Process Op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cess hidden by DKOM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n be relinked to make the reappear in task manager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n be closed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a process is hidden using FUTo methods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t is not safe to close or attempt to relink the proces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A8D-BEC7-4EDB-9299-D8EFCC32B476}" type="slidenum">
              <a:t>41</a:t>
            </a:fld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ank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– Bugcheck, greg h, pedram, uninformed/research’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ie – the HBG crew, eEye (liquid dietitians), Lil’ L, and uninform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FAB-42F5-4BA2-B660-32436D51DD0B}" type="slidenum">
              <a:t>42</a:t>
            </a:fld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E926-4C87-49D9-A3FE-A3A1CB12815D}" type="slidenum">
              <a:t>43</a:t>
            </a:fld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M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Demo VM will have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s: (6 rootkits, no hand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line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SDT Overwrite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river EAT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SR Hook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dden Proces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 Hidden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To Hidden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d…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inDb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ll on VMWar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F5B-736F-4DF5-9D30-6BDCC64A0207}" type="slidenum">
              <a:t>4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land H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T h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ing code must run in or alter the address space of the target proc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you try to patch a shared DLL such as KERNEL32.DLL or NTDLL.DLL, you will get a private copy of the DLL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ree documented ways to gain execution in the target address space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reateRemoteThre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lobally hooking Windows messag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ing the Registr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KEY_LOCAL_MACHINE\Software\Microsoft\Windows NT\CurrentVersion\Windows\AppInit_DLL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907-A776-44A0-8488-B6BEA202636C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AT H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ode DLL’s and Kernel drivers both expor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port Address Table is a table of pointers to functions within a module that are callable by other modul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ing this table in kernel mode will redirect every modified call to a hooked fun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ing this table in user mode will redirect every call within that given process space but not system wid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oks in User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tProcAddr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adLibrar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reateToolhelp32Snapsh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oks in Kernel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dis*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B44-3BF0-4DB6-80AD-1F70B7986EFF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oking The Ker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perating system is global memory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es not rely on process contex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cept when portions of a driver are page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y altering a single piece of code or a single pointer to code, the rootkit subverts every process on the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nel Object Hooking (KOH) is a great an example of pointer modificatio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odification of function pointers to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llback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river Unload routine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tc.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KOH introduces a very tough issue of detection since its hard to ascertain in a lot of cases where a pointer is suppose to poin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reg H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rootkit.com/newsread.php?newsid=50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290-19DF-4C5E-A2C3-5201DA91B393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19560" y="2438280"/>
            <a:ext cx="990720" cy="2438280"/>
            <a:chOff x="5119560" y="2438280"/>
            <a:chExt cx="990720" cy="2438280"/>
          </a:xfrm>
        </p:grpSpPr>
        <p:sp>
          <p:nvSpPr>
            <p:cNvPr id="117" name=""/>
            <p:cNvSpPr/>
            <p:nvPr/>
          </p:nvSpPr>
          <p:spPr>
            <a:xfrm>
              <a:off x="5119560" y="2438280"/>
              <a:ext cx="990720" cy="243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19560" y="24382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19560" y="27432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19560" y="304776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19560" y="33526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19560" y="36576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9560" y="396216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19560" y="42670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19560" y="45720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57344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9560" y="304812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0280" y="3352680"/>
            <a:ext cx="129528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0280" y="3048120"/>
            <a:ext cx="12952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19560" y="3352680"/>
            <a:ext cx="53352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3080" y="4114800"/>
            <a:ext cx="17524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29400" y="4281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CreateFi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600200"/>
            <a:ext cx="759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9BA-B19B-4145-8152-F0536B6BE90B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97120" y="2438280"/>
            <a:ext cx="2908440" cy="3049200"/>
            <a:chOff x="4497120" y="2438280"/>
            <a:chExt cx="2908440" cy="3049200"/>
          </a:xfrm>
        </p:grpSpPr>
        <p:sp>
          <p:nvSpPr>
            <p:cNvPr id="148" name=""/>
            <p:cNvSpPr/>
            <p:nvPr/>
          </p:nvSpPr>
          <p:spPr>
            <a:xfrm>
              <a:off x="5119560" y="2438280"/>
              <a:ext cx="990720" cy="2438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19560" y="24382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19560" y="27432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19560" y="304812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9560" y="33526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19560" y="36576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19560" y="396252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19560" y="42670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19560" y="45720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7120" y="304812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x25</a:t>
              </a:r>
              <a:endParaRPr b="0" lang="en-US" sz="16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19560" y="3048120"/>
              <a:ext cx="53352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10280" y="3352680"/>
              <a:ext cx="12952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0280" y="3048120"/>
              <a:ext cx="129528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19560" y="3352680"/>
              <a:ext cx="53352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53080" y="4114800"/>
              <a:ext cx="1752480" cy="685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29400" y="4281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tCreateFile</a:t>
              </a: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600" y="48448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Service Descriptor Table</a:t>
              </a: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934320" y="1752480"/>
            <a:ext cx="190476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205740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791320" y="2209680"/>
            <a:ext cx="1828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562360" y="1752480"/>
            <a:ext cx="7596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A46-F478-464F-9457-7237EDE77069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6:59:27Z</dcterms:created>
  <dc:creator>Ohorovitz</dc:creator>
  <dc:description/>
  <dc:language>en-US</dc:language>
  <cp:lastModifiedBy> Peter</cp:lastModifiedBy>
  <dcterms:modified xsi:type="dcterms:W3CDTF">2006-08-03T00:06:04Z</dcterms:modified>
  <cp:revision>144</cp:revision>
  <dc:subject/>
  <dc:title>Reliable Windows Heap Exploits</dc:title>
</cp:coreProperties>
</file>