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88F6-0581-40BA-9308-E00F9899F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8921-5544-4886-B382-B70130D029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8902-7DEA-4652-904F-904B200EA8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6CE6-1C9B-449D-BB10-EAB924CBC3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DB5B-E818-43D2-9D4E-F4A7981C6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4A85-204B-4D47-B46A-CC61756D7E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3EB8-8349-47C2-8D54-0C5AE60275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6F48-ABF3-4533-8299-DFAE0EA211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7426-70FC-427B-AAC1-896A31105D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0E90-3AED-43B6-91F7-1764EFAF65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3F90-5A1E-4F8B-A0A7-6F6B03EFD5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3AB3-2396-46EB-99D0-1839D8EDFB9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8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93992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103B-D7AF-4BDA-9178-1BE02A597D01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8445600" y="7207200"/>
            <a:ext cx="1587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marL="62496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4600" y="383508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3000"/>
          </a:bodyPr>
          <a:p>
            <a:pPr marL="20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44600" y="119376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moku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10159920" cy="847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otki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ific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 Butler &amp; Peter Silb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D318-353C-4ADF-90B5-210875E34A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Kernel 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ng system is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rely on process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when portions of a driver are p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C21C-71C6-467A-8038-65849DE8BA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6255720" y="971640"/>
            <a:ext cx="2128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SystemServi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67200" y="1185840"/>
            <a:ext cx="507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7470720" y="475776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3E49-0000-4408-A74A-678BF9153C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180120" y="1269720"/>
            <a:ext cx="1185840" cy="1608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8AE3-426E-4543-9025-8987B409275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7027920" y="406404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180120" y="2878200"/>
            <a:ext cx="135576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FA48-1EA5-46A3-9714-C8621E8D334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281720" y="677880"/>
            <a:ext cx="2422800" cy="23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592200" y="762120"/>
            <a:ext cx="2625840" cy="338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440000"/>
            <a:ext cx="2286000" cy="14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1573200"/>
            <a:ext cx="26258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910040" y="2963880"/>
            <a:ext cx="932040" cy="24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910040" y="3301920"/>
            <a:ext cx="932040" cy="338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317840" y="3301920"/>
            <a:ext cx="93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7377120" y="846000"/>
            <a:ext cx="220032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7461360" y="932040"/>
            <a:ext cx="2031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t!NtCreateFil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jmp 0008:11223344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519960" y="3471840"/>
            <a:ext cx="3132000" cy="211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688080" y="3639960"/>
            <a:ext cx="2625840" cy="17780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942240" y="3726000"/>
            <a:ext cx="253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di,ed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bp,es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p nt!NtCreateFile+0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101592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09720" y="1353960"/>
            <a:ext cx="2370240" cy="33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995720" y="1440000"/>
            <a:ext cx="168480" cy="194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374240" y="254016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826160" y="533412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57840" y="1777680"/>
            <a:ext cx="177804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027560" y="2116080"/>
            <a:ext cx="50796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920" y="1608120"/>
            <a:ext cx="424080" cy="2201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F553-B830-4D40-B849-36C74209AC7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alls used to sen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eviceIoControl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Writ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are converted to I/O Request Packets (IR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delivered to lower leve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93B7-B2D3-4E19-8C6E-19029BBF90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river is represented by a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handled by a set of 28 function pointers within the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otkit can hook one of these function pointers to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8C55-3BEB-4092-8A65-B769F080950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rupt Descriptor Table H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PU has an 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T contains pointers to Interrupt Service Routines (IS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or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ver the virtual memory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ep the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keystro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6074-A00E-4AEB-BB51-7618142F5DC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marL="59256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the EPROCESS block of the process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rivilege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Group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the Token to Fool the Windows Ev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E299-884C-48ED-9E2B-0648DD59E5C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 - Wind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13080" y="6781680"/>
            <a:ext cx="5249520" cy="339480"/>
            <a:chOff x="2413080" y="6781680"/>
            <a:chExt cx="5249520" cy="339480"/>
          </a:xfrm>
        </p:grpSpPr>
        <p:sp>
          <p:nvSpPr>
            <p:cNvPr id="555" name=""/>
            <p:cNvSpPr/>
            <p:nvPr/>
          </p:nvSpPr>
          <p:spPr>
            <a:xfrm>
              <a:off x="2481480" y="7090560"/>
              <a:ext cx="5181120" cy="30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84120" y="6781680"/>
              <a:ext cx="68400" cy="30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13080" y="6842880"/>
              <a:ext cx="137520" cy="278280"/>
            </a:xfrm>
            <a:prstGeom prst="upArrow">
              <a:avLst>
                <a:gd name="adj1" fmla="val 50000"/>
                <a:gd name="adj2" fmla="val 5058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2184480" y="1676520"/>
          <a:ext cx="5962680" cy="50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4480" y="1676520"/>
                    <a:ext cx="59626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2336760" y="4572000"/>
            <a:ext cx="5105520" cy="1404720"/>
            <a:chOff x="2336760" y="4572000"/>
            <a:chExt cx="5105520" cy="1404720"/>
          </a:xfrm>
        </p:grpSpPr>
        <p:sp>
          <p:nvSpPr>
            <p:cNvPr id="561" name=""/>
            <p:cNvSpPr/>
            <p:nvPr/>
          </p:nvSpPr>
          <p:spPr>
            <a:xfrm rot="5400000">
              <a:off x="6653880" y="5188320"/>
              <a:ext cx="1404720" cy="172080"/>
            </a:xfrm>
            <a:prstGeom prst="rightArrow">
              <a:avLst>
                <a:gd name="adj1" fmla="val 50000"/>
                <a:gd name="adj2" fmla="val 20407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36760" y="4572000"/>
              <a:ext cx="5048280" cy="137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36760" y="4572000"/>
              <a:ext cx="57240" cy="137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135B-E9AD-463C-AFC3-830484F4BE9A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 Silb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phomore Colleg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Security Resear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F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or to openRCE.org (VISIT THE S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But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O of Komok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omoku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att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ki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otkits: Subverting the Windows 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uthor of Shadow Walker proof-of-concept memory subversion rootk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 of Direct Kernel Object Manipulation (DK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3327-F60F-404A-B08B-5FA26C4FE09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o – Hiding From the 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formed Journal Vol. 3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 of FU hence the ‘T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s from IceSword and Black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patched on 2/17/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itself from the 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8FCA-B84D-4D56-9A0D-43866E1E12D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pCidTable (PspPidTab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’s indexes are the PIDs of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5ECE-16EE-4005-83FF-9169BC788EF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Th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143000"/>
            <a:ext cx="92203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are an index into the Handle Table for a particula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epresent processes, threads, tokens, events, por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must do the translation from a handle to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rocess has its own handle table to keep track of the handles it 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6BF5-06B1-4B1E-851E-F8CA827B1EC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Handl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636040" cy="58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kd&gt; dt nt!_HANDLE_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0 TableCode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4 QuotaProcess                  : Ptr32 _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8 UniqueProcessId            : Ptr32 Vo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c HandleTableLock           : [4]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1c HandleTableList             : _LIST_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4 HandleContentionEvent :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8 DebugInfo                      : Ptr32 _HANDLE_TRACE_DEBUG_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c ExtraInfoPages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0 FirstFree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4 LastFree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8 NextHandleNeedingPool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c HandleCount    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Flags     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StrictFIFO                      : Pos 0, 1 B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C41C-1715-4FE0-92AF-382BB69E0D3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440" y="2924280"/>
            <a:ext cx="3065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290520" y="1523880"/>
            <a:ext cx="4451400" cy="2963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38040" y="1778040"/>
            <a:ext cx="44881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608120" y="4038480"/>
            <a:ext cx="101592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842080" y="1185840"/>
            <a:ext cx="330192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434280" y="3979800"/>
            <a:ext cx="0" cy="101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434280" y="5334120"/>
            <a:ext cx="507960" cy="118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651996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832200"/>
            <a:ext cx="4572000" cy="3398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587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925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61801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519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1960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53588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7873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211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518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8898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2282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5677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180120" y="3832200"/>
            <a:ext cx="33984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25592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418000" y="254016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sGetCurrentProcessById() 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F715-CCFA-4800-B668-957E4D1B650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06440" y="2924280"/>
            <a:ext cx="306540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0520" y="1854360"/>
            <a:ext cx="4451400" cy="26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778040" y="4317840"/>
            <a:ext cx="846000" cy="127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925960" y="1608120"/>
            <a:ext cx="330228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7450200" y="618012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002120"/>
            <a:ext cx="4572000" cy="3380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5587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925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1801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6519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1960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753588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8211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85518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88898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92282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95677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6180120" y="400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44258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418000" y="268128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PsGetCurrentProcessById()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254160" y="1860480"/>
            <a:ext cx="448776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193760" y="84240"/>
            <a:ext cx="8458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25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5184-80AE-425A-8CA6-994661791B1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ct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light B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in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hidden process and file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word 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tool offe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DT Hook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ile and Registry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orts and socket communication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fla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ications rely upon the PspCidTable for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A5D4-54A3-408B-A834-4075757D115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695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cting Hidden Process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ID Brute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0" y="1185480"/>
            <a:ext cx="10159920" cy="62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(Pre-Valentine’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eforces PIDs 0x0 - 0x4E1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OpenProcess on each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uccess store valid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Continu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differences are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Cross-View method or Difference Based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AA0E-F601-407B-965D-58BC5C908E5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73CD-C37D-4F43-B570-726E305C3FC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RA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RAIDE different than Blacklight, RKDetector, Rootkit Revealer, VICE, SVV, SDTRest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EA75-56C1-4B8B-97FC-559EE1C1447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219320"/>
            <a:ext cx="922032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ddress Table (I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rviceDescript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y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/O Request Packet (I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Descriptor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ng Hidde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 using 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6FF6-EF3E-4AE3-995B-21ABB003C33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86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is a complete toolkit offer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nsic Capabilities (RKDet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Detection (Black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Detection (SDTRestore, SVV, 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Restoration (SDTRestore, SV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T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 Subversion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Fea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nk processes to make i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Method Detection – Example hook, DKO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30D5-95ED-40C0-95CC-8B6FD03719D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RAIDE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combines most exis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etects Memory Sub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gives the user more information about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IOCTL’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5C83-F8B7-468D-9E78-40D5B7D02AE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detect hidden files, folders,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Driver IRP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prevent a rootkit from 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F747-1E72-42A1-B209-FF33E019E12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Commun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uses Shared Memory segments to pass information kernel lan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r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Memory contains only encryp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uses randomly named events for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randomly generated process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FAB2-08F1-4678-AE41-41FCAC4CB45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can not be zero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must not have false pos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0472-1F0D-4F58-B8CF-F85371EFBFE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pointers to “ServiceTabl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ed in all E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 a process with random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processes list visible to RA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27D6-96C6-4115-ABC4-CC08B5252ED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Method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hidden in both it uses the FUTo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E54B-0DC6-499E-8187-04ED3DCD736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10159920" cy="761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 Walker Detec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minating the Sha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10159920" cy="56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 Walker relies on IDT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DT 0x0e for a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 could modify itself to hide the IDT hook with an inline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etection schemes o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pp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mapping, we mean remapping a given physical frame to a new virtual address (i.e. like the shared memory concep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D851-F150-4A74-A4F2-77750EBE248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SSDT entry overwrite hook is de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KeServiceDescriptorTable from file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address for hooked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culat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hook” SSDT index with origin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F361-DF4D-404D-9B83-8A7F5CEEA72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an inline ho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func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first few instru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first few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store as many instruction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26DB-E059-4704-82E5-3F30D4498E5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tk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or Modifies existing execution paths of important operating system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point of a rootkit is st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of 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binaries like ls, ps, du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login program to steal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0CAE-FFF8-48F1-9C5C-A107893870E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9874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offers the user forens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nking Processes DKOM Method in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es’ address spaces fo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5ED6-900E-4C7F-8B0B-D89FAB6BC08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nk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is common hid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relies on unlinking the EPROCESS link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link pointers by passing the System EPROCESS and the hidden EPROCES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ertTai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user to se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7F14-B48D-40F4-9703-F23BBF39FD2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curity Analysts to reverse the executable or system file and see what it was do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matter if the file is originally hidden on the 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ed file is renamed and put in working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lets analyst bypass most packer and obfuscation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AD75-200B-410C-8103-BF7B7A28144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: bugcheck, xbud, thief, skape, pedram, greg h, nologin/research’ers, f-secure labs. And my school for cutting me a break on midt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: Lil’ L, lonerancher, Barns, Greg, 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FE55-EF21-4E4D-A0CF-467CDB1D5BF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3764-C3F6-4277-A06C-A4CDF2CA31C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B180-5B88-4F1F-9AF5-DA148338BBB8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User 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 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Remote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ly hooking Window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A01E-B407-42BB-A966-958BADA789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5905800" y="2327400"/>
            <a:ext cx="26377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 Address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17840" y="254016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3894120" y="4572000"/>
            <a:ext cx="1947960" cy="169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910040" y="4233960"/>
            <a:ext cx="474192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55FB-51F5-4DA0-959D-55D53282F8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455560" y="101592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349680" y="1947960"/>
            <a:ext cx="1523880" cy="321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433920" y="1947960"/>
            <a:ext cx="2793960" cy="31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265440" y="1777680"/>
            <a:ext cx="422280" cy="592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4C46-7305-4CAE-A51C-63C195476E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741920" y="2031840"/>
            <a:ext cx="2116080" cy="245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2A42-DADE-4567-84AD-6EE222C042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4487760"/>
            <a:ext cx="1353960" cy="507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0372-4392-4DFB-8F8A-5BEC666F15B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Peter</cp:lastModifiedBy>
  <dcterms:modified xsi:type="dcterms:W3CDTF">2006-03-03T09:11:01Z</dcterms:modified>
  <cp:revision>17</cp:revision>
  <dc:subject/>
  <dc:title>Copilot: A high assurance integrity monitor</dc:title>
</cp:coreProperties>
</file>