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61CA-79C9-4818-8F18-A642BAD89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C6E5-63E4-4293-8A3D-0D430B76337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4C48-2205-46B0-AA51-F00AEBC7CA0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E982-7410-4963-9FF0-6E53ECCA2C7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EE53-8ECB-4231-A4E7-E465EFF2A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0C67-2264-47D2-99D5-FA5B53D1F1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E8E7-0EB8-41B8-879B-789CEADB82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A70D-8C4F-4146-B0AA-F7E59D891D5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8F17-560F-4781-B867-6B4155D9453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7995-34BC-4DA4-ACD9-9384FEC4338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8F36-4D2A-4CBB-B2EF-8B875CF29E9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1511-6184-4B81-AF0A-C37CE062D69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87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93992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763A-4F74-4198-9264-7955F0046672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/>
          <p:cNvSpPr/>
          <p:nvPr/>
        </p:nvSpPr>
        <p:spPr>
          <a:xfrm>
            <a:off x="8445600" y="7207200"/>
            <a:ext cx="1587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7000"/>
          </a:bodyPr>
          <a:p>
            <a:pPr marL="62496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44600" y="383508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3000"/>
          </a:bodyPr>
          <a:p>
            <a:pPr marL="20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44600" y="119376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7000"/>
          </a:bodyPr>
          <a:p>
            <a:pPr marL="43164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1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89100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129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moku.com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877840"/>
            <a:ext cx="10159920" cy="847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: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otki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lysi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tifica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 Butler &amp; Peter Silber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8FDD-4C51-4396-8A2A-F3BCF36ABFD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Kernel Sp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erating system is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rely on process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 when portions of a driver are page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DDA7-2B0A-47B4-9D49-46B314669F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6255720" y="971640"/>
            <a:ext cx="2128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SystemServic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5767200" y="1185840"/>
            <a:ext cx="507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7470720" y="475776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21474-AC25-43D4-B180-84F3C8E5F50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180120" y="1269720"/>
            <a:ext cx="1185840" cy="1608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A007-62CF-4399-A416-064B1736DF4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7027920" y="406404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6180120" y="2878200"/>
            <a:ext cx="1355760" cy="1523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BAEA-2D4B-4A7D-AF7D-1205209F374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7281720" y="677880"/>
            <a:ext cx="2422800" cy="237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>
            <a:off x="592200" y="762120"/>
            <a:ext cx="2625840" cy="338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1440000"/>
            <a:ext cx="2286000" cy="1438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846000" y="1573200"/>
            <a:ext cx="26258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4910040" y="2963880"/>
            <a:ext cx="932040" cy="245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4910040" y="3301920"/>
            <a:ext cx="932040" cy="338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4317840" y="3301920"/>
            <a:ext cx="932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7377120" y="846000"/>
            <a:ext cx="2200320" cy="1440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7461360" y="932040"/>
            <a:ext cx="20318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t!NtCreateFile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jmp 0008:11223344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6519960" y="3471840"/>
            <a:ext cx="3132000" cy="211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6688080" y="3639960"/>
            <a:ext cx="2625840" cy="17780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6942240" y="3726000"/>
            <a:ext cx="25398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di,edi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bp,es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mp nt!NtCreateFile+08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725760" y="101592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709720" y="1353960"/>
            <a:ext cx="2370240" cy="33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4995720" y="1440000"/>
            <a:ext cx="168480" cy="194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7374240" y="254016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4826160" y="5334120"/>
            <a:ext cx="1523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757840" y="1777680"/>
            <a:ext cx="177804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027560" y="2116080"/>
            <a:ext cx="50796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873920" y="1608120"/>
            <a:ext cx="424080" cy="220176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9AA4-C212-4CE1-95B2-03BA42E5E90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calls used to send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DeviceIoControl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Write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s are converted to I/O Request Packets (IR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delivered to lower leve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4344-CC36-469C-85DD-37C06B32B65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driver is represented by a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handled by a set of 28 function pointers within the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ootkit can hook one of these function pointers to gai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C54F-5D36-4164-823E-58EBB5FBB9C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rupt Descriptor Table H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PU has an 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T contains pointers to Interrupt Service Routines (IS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for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over the virtual memory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step the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pt keystro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BCA9-5BB3-47B7-9BA4-FE9A93491E4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2000"/>
          </a:bodyPr>
          <a:p>
            <a:pPr marL="59256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ide a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the EPROCESS block of the process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Privilege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Group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ipulate the Token to Fool the Windows Event 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88A7-AF4E-466B-84F4-6429931C507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 - Wind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413080" y="6781680"/>
            <a:ext cx="5249520" cy="339480"/>
            <a:chOff x="2413080" y="6781680"/>
            <a:chExt cx="5249520" cy="339480"/>
          </a:xfrm>
        </p:grpSpPr>
        <p:sp>
          <p:nvSpPr>
            <p:cNvPr id="555" name=""/>
            <p:cNvSpPr/>
            <p:nvPr/>
          </p:nvSpPr>
          <p:spPr>
            <a:xfrm>
              <a:off x="2481480" y="7090560"/>
              <a:ext cx="5181120" cy="30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584120" y="6781680"/>
              <a:ext cx="68400" cy="30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13080" y="6842880"/>
              <a:ext cx="137520" cy="278280"/>
            </a:xfrm>
            <a:prstGeom prst="upArrow">
              <a:avLst>
                <a:gd name="adj1" fmla="val 50000"/>
                <a:gd name="adj2" fmla="val 5058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2184480" y="1676520"/>
          <a:ext cx="5962680" cy="508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4480" y="1676520"/>
                    <a:ext cx="596268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0" name=""/>
          <p:cNvGrpSpPr/>
          <p:nvPr/>
        </p:nvGrpSpPr>
        <p:grpSpPr>
          <a:xfrm>
            <a:off x="2336760" y="4572000"/>
            <a:ext cx="5105520" cy="1404720"/>
            <a:chOff x="2336760" y="4572000"/>
            <a:chExt cx="5105520" cy="1404720"/>
          </a:xfrm>
        </p:grpSpPr>
        <p:sp>
          <p:nvSpPr>
            <p:cNvPr id="561" name=""/>
            <p:cNvSpPr/>
            <p:nvPr/>
          </p:nvSpPr>
          <p:spPr>
            <a:xfrm rot="5400000">
              <a:off x="6653880" y="5188320"/>
              <a:ext cx="1404720" cy="172080"/>
            </a:xfrm>
            <a:prstGeom prst="rightArrow">
              <a:avLst>
                <a:gd name="adj1" fmla="val 50000"/>
                <a:gd name="adj2" fmla="val 20407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36760" y="4572000"/>
              <a:ext cx="5048280" cy="1371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36760" y="4572000"/>
              <a:ext cx="57240" cy="137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8ECC-FC5A-4796-A36A-01AEBD428091}" type="slidenum">
              <a:t>1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Are W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er Silber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phomore College Stud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pendent Security Research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F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or to openRCE.org (VISIT THE SI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ie But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O of Komok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omoku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att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kit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otkits: Subverting the Windows 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author of Shadow Walker proof-of-concept memory subversion rootk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oneer of Direct Kernel Object Manipulation (DK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8205-BF41-4709-870C-289592BE33D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o – Hiding From the 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o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formed Journal Vol. 3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version of FU hence the ‘T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s from IceSword and Black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patched on 2/17/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s itself from the 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DF17-3CE3-4298-B467-DE9F00F30DB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spCidTable (PspPidTab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’s indexes are the PIDs of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6D4E-66C4-47A2-8E1B-EF3CCEAA597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Th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7960" y="1143000"/>
            <a:ext cx="9220320" cy="601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s are an index into the Handle Table for a particula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represent processes, threads, tokens, events, port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must do the translation from a handle to a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process has its own handle table to keep track of the handles it ow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F910-2347-45B8-AE88-A8E64D636A7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4233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Handl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636040" cy="58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5000"/>
          </a:bodyPr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kd&gt; dt nt!_HANDLE_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0 TableCode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4 QuotaProcess                  : Ptr32 _E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8 UniqueProcessId            : Ptr32 Vo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c HandleTableLock           : [4]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1c HandleTableList             : _LIST_EN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4 HandleContentionEvent :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8 DebugInfo                      : Ptr32 _HANDLE_TRACE_DEBUG_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c ExtraInfoPages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0 FirstFree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4 LastFree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8 NextHandleNeedingPool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c HandleCount    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Flags     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StrictFIFO                      : Pos 0, 1 B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A1C6-0114-43DF-B1E8-B395D828D2E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06440" y="2924280"/>
            <a:ext cx="3065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290520" y="1523880"/>
            <a:ext cx="4451400" cy="2963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338040" y="1778040"/>
            <a:ext cx="448812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1608120" y="4038480"/>
            <a:ext cx="1015920" cy="1524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5842080" y="1185840"/>
            <a:ext cx="330192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6434280" y="3979800"/>
            <a:ext cx="0" cy="101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6434280" y="5334120"/>
            <a:ext cx="507960" cy="1185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651996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5334120" y="3832200"/>
            <a:ext cx="4572000" cy="3398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5587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5925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61801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6519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71960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753588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7873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211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5518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88898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92282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95677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6180120" y="3832200"/>
            <a:ext cx="339840" cy="33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5334120" y="425592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5418000" y="254016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PsGetCurrentProcessById() 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30FF-046C-47BA-85AE-20BDA9974D5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06440" y="2924280"/>
            <a:ext cx="306540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290520" y="1854360"/>
            <a:ext cx="4451400" cy="2624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1778040" y="4317840"/>
            <a:ext cx="846000" cy="1270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5925960" y="1608120"/>
            <a:ext cx="330228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7450200" y="618012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4002120"/>
            <a:ext cx="4572000" cy="3380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5587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5925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61801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6519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>
            <a:off x="68580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71960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"/>
          <p:cNvSpPr/>
          <p:nvPr/>
        </p:nvSpPr>
        <p:spPr>
          <a:xfrm>
            <a:off x="753588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>
            <a:off x="7873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8211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"/>
          <p:cNvSpPr/>
          <p:nvPr/>
        </p:nvSpPr>
        <p:spPr>
          <a:xfrm>
            <a:off x="85518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"/>
          <p:cNvSpPr/>
          <p:nvPr/>
        </p:nvSpPr>
        <p:spPr>
          <a:xfrm>
            <a:off x="88898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>
            <a:off x="92282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>
            <a:off x="95677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6180120" y="400212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>
            <a:off x="5334120" y="44258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5418000" y="268128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PsGetCurrentProcessById()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>
            <a:off x="254160" y="1860480"/>
            <a:ext cx="448776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1193760" y="84240"/>
            <a:ext cx="84582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marL="25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3DBD-8D12-4000-A587-47BAC48A965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tect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cklight B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d in March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hidden process and file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eSword 1.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ust tool offe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DT Hook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File and Registry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orts and socket communication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fla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applications rely upon the PspCidTable for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94AA-86FF-4E6C-AC1D-49387B20A11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1695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cting Hidden Process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ID Brutefo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0" y="1185480"/>
            <a:ext cx="10159920" cy="626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(Pre-Valentine’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teforces PIDs 0x0 - 0x4E1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s OpenProcess on each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uccess store valid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e Continue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differences are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Cross-View method or Difference Based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DB13-E256-4588-A0D8-4E43C9EA6DB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6A59-8E67-4A72-ADE3-8684FFE9C48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RAI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akes RAIDE different than Blacklight, RKDetector, Rootkit Revealer, VICE, SVV, SDTResto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9DF9-6BAB-43DB-BC42-820B87842AB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7960" y="1219320"/>
            <a:ext cx="9220320" cy="59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 of Rootk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Address Table (I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ServiceDescriptor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y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/O Request Packet (I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 Descriptor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ing Proc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ing Hidden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 using 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48C4-FC8D-46BD-99EB-180A7A301E1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86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is a complete toolkit offer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nsic Capabilities (RKDete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Detection (Black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Detection (SDTRestore, SVV, V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Restoration (SDTRestore, SV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T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 Subversion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Feat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nk processes to make it 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 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Method Detection – Example hook, DKOM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0428-B14A-48BD-941C-AB4BF55F987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RAIDE Diffe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combines most exis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etects Memory Sub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gives the user more information about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 IOCTL’s to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ED1D-DF24-427D-8E45-DC1D708329E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detect hidden files, folders, or registry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Driver IRP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prevent a rootkit from lo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F20C-3D51-426A-85FD-E00FCD44DD0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Communica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uses Shared Memory segments to pass information kernel lan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r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Memory contains only encryp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uses randomly named events for sign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randomly generated process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DD50-E5F6-439B-AD4B-5B23AAD3328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can not be zeroed o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is u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must not have false posi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9DCA-21D9-4549-8F96-2C516930AA7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e pointers to “ServiceTabl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ed in all E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 a process with random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processes list visible to RA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B0E0-AF4B-4A7D-A99A-5B2F07AD4AE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Method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K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hidden in both it uses the FUTo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ECC8-A921-4CB5-8F1B-C68A3C99055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10159920" cy="7617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dow Walker Detection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luminating the Shad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10159920" cy="563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dow Walker relies on IDT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IDT 0x0e for a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 could modify itself to hide the IDT hook with an inline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detection schemes o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pping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remapping, we mean remapping a given physical frame to a new virtual address (i.e. like the shared memory concep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8132-DFF7-4734-9651-14578752A41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 SSDT entry overwrite hook is de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KeServiceDescriptorTable from file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address for hooked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culate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hook” SSDT index with original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2A36-0494-4FA8-B206-E9CDC6C8ED9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an inline ho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function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first few instru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 first few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restore as many instructions 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0132-F030-45F0-B5A4-FD253E982D9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ootk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oks or Modifies existing execution paths of important operating system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ey point of a rootkit is steal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 of Rootk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 binaries like ls, ps, du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jan login program to steal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DA0C-9645-4EC7-AD0C-7F1FC8BE569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ens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lvl="1" marL="98748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offers the user forensic fe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nking Processes DKOM Method in Re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es’ address spaces for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8E87-089A-42EE-9F3E-73FF9AB6CC8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nk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is common hiding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relies on unlinking the EPROCESS link po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e link pointers by passing the System EPROCESS and the hidden EPROCESS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sertTail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user to se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DC82-DE6C-4DF1-8348-18A07CDDC9E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Security Analysts to reverse the executable or system file and see what it was do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matter if the file is originally hidden on the 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ed file is renamed and put in working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lets analyst bypass most packer and obfuscation prot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3C17-F38F-4055-A4DF-5DFAF5DF363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: bugcheck, xbud, thief, skape, pedram, greg h, nologin/research’ers, f-secure labs. And my school for cutting me a break on midte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: Lil’ L, lonerancher, Barns, Greg, and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g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B5D2-3A0F-4A94-8DD3-CCEABE263146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26FF-3EC1-4290-BD02-1D3EE689268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C4E8-4B6E-41AB-8487-895AA57F8F48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User 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T 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Remote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ly hooking Windows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Reg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8F75-F948-406A-86C5-C9AD72D9521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"/>
          <p:cNvSpPr/>
          <p:nvPr/>
        </p:nvSpPr>
        <p:spPr>
          <a:xfrm>
            <a:off x="5905800" y="2327400"/>
            <a:ext cx="26377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 Address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317840" y="254016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"/>
          <p:cNvSpPr/>
          <p:nvPr/>
        </p:nvSpPr>
        <p:spPr>
          <a:xfrm>
            <a:off x="3894120" y="4572000"/>
            <a:ext cx="1947960" cy="1693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"/>
          <p:cNvSpPr/>
          <p:nvPr/>
        </p:nvSpPr>
        <p:spPr>
          <a:xfrm>
            <a:off x="4910040" y="4233960"/>
            <a:ext cx="4741920" cy="761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A503-F7D2-4DFF-A594-1250137F5F0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455560" y="101592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6349680" y="1947960"/>
            <a:ext cx="1523880" cy="321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6433920" y="1947960"/>
            <a:ext cx="2793960" cy="31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6265440" y="1777680"/>
            <a:ext cx="422280" cy="592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2A57-6327-41A7-94A8-2C19125CC4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741920" y="2031840"/>
            <a:ext cx="2116080" cy="245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9076-1ACD-42BC-AE2F-60722D7364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"/>
          <p:cNvSpPr/>
          <p:nvPr/>
        </p:nvSpPr>
        <p:spPr>
          <a:xfrm>
            <a:off x="4741920" y="4487760"/>
            <a:ext cx="1353960" cy="507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FCAA-E6E9-4421-ADC7-665019196CF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 Peter</cp:lastModifiedBy>
  <dcterms:modified xsi:type="dcterms:W3CDTF">2006-03-03T09:11:01Z</dcterms:modified>
  <cp:revision>17</cp:revision>
  <dc:subject/>
  <dc:title>Copilot: A high assurance integrity monitor</dc:title>
</cp:coreProperties>
</file>